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76EF-788F-4ACD-A1E0-5F96507E0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5491-2315-4243-BC9B-E03F1D2F7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8085-4162-42CC-B1AE-71597EF6F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BB78-EBA7-48AA-8C43-A58C6915C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2342A-3B83-430A-89F1-95AC1406C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DA61D-2B45-4CF3-B955-75CC5DB10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15DFA-72AA-4565-8904-033FB880A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90D64-28A9-4CA7-A283-1DE2C6C62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D1B61-A27E-4D05-94AE-7F27F0A1E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D4E78-C3A7-4DAC-BFC8-E5AB3CF1F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2D814-B2FA-43C6-96BC-64FF9ED6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A489-84BC-4E96-885E-F015D6485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984F3-0FCA-4949-8F92-0C80D542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D427D-29EF-43AE-A120-5A6BA4AD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AB4A4-BBFA-49E3-AE3F-21D9F5F32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838DB-5412-413C-9813-9F9F8428B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557BD-1F91-460D-A449-A84516B7B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E755-CA97-4A95-8F50-9CDEC8976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FB33-D06C-4C87-BECF-33B1200A5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D77A-0255-4867-BE1C-03A149D4A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2780-295B-45B8-A4B7-7CC4CE541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7562-CB17-464E-8C06-76770E08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94F8-2B9D-433B-A565-36AD55E0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043C-DFBF-4DEA-9742-5F13F82E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0C30F-3626-4FDD-996F-78271E332FA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3D187-22DC-4FF6-A16E-F87627160FB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407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ecff"/>
                </a:solidFill>
                <a:latin typeface="Arial"/>
              </a:rPr>
              <a:t>Simulation Scenari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340000" y="404640"/>
            <a:ext cx="4176720" cy="31338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3708360" y="5300640"/>
            <a:ext cx="4105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ecff"/>
                </a:solidFill>
                <a:latin typeface="Arial"/>
              </a:rPr>
              <a:t>Barry Daint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3419640" y="3429000"/>
            <a:ext cx="2232000" cy="1728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e we  living i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simulatio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276720" y="1989000"/>
            <a:ext cx="2303280" cy="1079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e we lea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irtual liv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24000" y="1916280"/>
            <a:ext cx="1800000" cy="9349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e Truma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h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50920" y="836640"/>
            <a:ext cx="1873080" cy="720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e Matri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68360" y="3213000"/>
            <a:ext cx="1655640" cy="722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Vanilla S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68360" y="4221000"/>
            <a:ext cx="1944720" cy="936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Permu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50920" y="5661000"/>
            <a:ext cx="2016000" cy="720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e 13</a:t>
            </a:r>
            <a:r>
              <a:rPr b="0" i="1" lang="en-GB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Flo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877080" y="1341360"/>
            <a:ext cx="1582560" cy="647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ip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804000" y="2708280"/>
            <a:ext cx="1513080" cy="649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st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732720" y="4076640"/>
            <a:ext cx="1584360" cy="647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lm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68360" y="1341360"/>
            <a:ext cx="790920" cy="863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340000" y="2565360"/>
            <a:ext cx="576360" cy="73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340000" y="3573360"/>
            <a:ext cx="719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2484360" y="4365360"/>
            <a:ext cx="647640" cy="431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484360" y="5157720"/>
            <a:ext cx="719280" cy="7207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5796000" y="1700280"/>
            <a:ext cx="792000" cy="431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5795640" y="4365720"/>
            <a:ext cx="6476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5796000" y="3141720"/>
            <a:ext cx="720720" cy="2872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948360" y="5445000"/>
            <a:ext cx="1440000" cy="71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cGi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 flipV="1">
            <a:off x="5867280" y="5229000"/>
            <a:ext cx="865440" cy="431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132000" y="189000"/>
            <a:ext cx="3095640" cy="94716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An old theme with a new twis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276720" y="5516640"/>
            <a:ext cx="2952720" cy="9471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and sudden notorie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2843280" y="404640"/>
            <a:ext cx="2232000" cy="129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gica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merel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987640" y="2492280"/>
            <a:ext cx="2160720" cy="13683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mologica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merel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627280" y="4797360"/>
            <a:ext cx="2232000" cy="1295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mologica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&amp;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quite likel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164360" y="404640"/>
            <a:ext cx="216000" cy="3529080"/>
          </a:xfrm>
          <a:custGeom>
            <a:avLst/>
            <a:gdLst>
              <a:gd name="textAreaLeft" fmla="*/ 0 w 216000"/>
              <a:gd name="textAreaRight" fmla="*/ 78120 w 216000"/>
              <a:gd name="textAreaTop" fmla="*/ 91800 h 3529080"/>
              <a:gd name="textAreaBottom" fmla="*/ 3437280 h 352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236000" y="4653000"/>
            <a:ext cx="360360" cy="1584360"/>
          </a:xfrm>
          <a:custGeom>
            <a:avLst/>
            <a:gdLst>
              <a:gd name="textAreaLeft" fmla="*/ 0 w 360360"/>
              <a:gd name="textAreaRight" fmla="*/ 129960 w 36036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451640" y="333360"/>
            <a:ext cx="1692360" cy="1440000"/>
          </a:xfrm>
          <a:prstGeom prst="cloudCallout">
            <a:avLst>
              <a:gd name="adj1" fmla="val -43995"/>
              <a:gd name="adj2" fmla="val 74805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reat = id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596360" y="3716280"/>
            <a:ext cx="1547640" cy="1224000"/>
          </a:xfrm>
          <a:prstGeom prst="cloudCallout">
            <a:avLst>
              <a:gd name="adj1" fmla="val -40050"/>
              <a:gd name="adj2" fmla="val 8956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r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 real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148360" y="765000"/>
            <a:ext cx="187164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scart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219640" y="2492280"/>
            <a:ext cx="1800360" cy="1381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andard vat-brain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st sci-fi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932360" y="4869000"/>
            <a:ext cx="216072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ipler, Bostrom, posthumani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24000" y="189000"/>
            <a:ext cx="2089080" cy="1942920"/>
          </a:xfrm>
          <a:prstGeom prst="rect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uld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m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fe be 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ulation?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315" idx="2"/>
            <a:endCxn id="316" idx="0"/>
          </p:cNvCxnSpPr>
          <p:nvPr/>
        </p:nvCxnSpPr>
        <p:spPr>
          <a:xfrm flipH="1" rot="16200000">
            <a:off x="3618000" y="2041200"/>
            <a:ext cx="792720" cy="110160"/>
          </a:xfrm>
          <a:prstGeom prst="curvedConnector5">
            <a:avLst>
              <a:gd name="adj1" fmla="val 49886"/>
              <a:gd name="adj2" fmla="val 49836"/>
              <a:gd name="adj3" fmla="val 49886"/>
            </a:avLst>
          </a:prstGeom>
          <a:ln w="572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7" name=""/>
          <p:cNvCxnSpPr>
            <a:stCxn id="316" idx="2"/>
            <a:endCxn id="317" idx="0"/>
          </p:cNvCxnSpPr>
          <p:nvPr/>
        </p:nvCxnSpPr>
        <p:spPr>
          <a:xfrm rot="5400000">
            <a:off x="3436920" y="4166280"/>
            <a:ext cx="937440" cy="326160"/>
          </a:xfrm>
          <a:prstGeom prst="curvedConnector5">
            <a:avLst>
              <a:gd name="adj1" fmla="val 49980"/>
              <a:gd name="adj2" fmla="val 49944"/>
              <a:gd name="adj3" fmla="val 49980"/>
            </a:avLst>
          </a:prstGeom>
          <a:ln w="572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8" name=""/>
          <p:cNvCxnSpPr>
            <a:stCxn id="325" idx="3"/>
            <a:endCxn id="315" idx="1"/>
          </p:cNvCxnSpPr>
          <p:nvPr/>
        </p:nvCxnSpPr>
        <p:spPr>
          <a:xfrm flipV="1">
            <a:off x="2412720" y="1052280"/>
            <a:ext cx="430920" cy="108720"/>
          </a:xfrm>
          <a:prstGeom prst="curvedConnector5">
            <a:avLst>
              <a:gd name="adj1" fmla="val 49749"/>
              <a:gd name="adj2" fmla="val 49833"/>
              <a:gd name="adj3" fmla="val 49749"/>
            </a:avLst>
          </a:prstGeom>
          <a:ln w="572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29" name=""/>
          <p:cNvSpPr/>
          <p:nvPr/>
        </p:nvSpPr>
        <p:spPr>
          <a:xfrm>
            <a:off x="324000" y="3933720"/>
            <a:ext cx="2052360" cy="1295640"/>
          </a:xfrm>
          <a:prstGeom prst="rect">
            <a:avLst/>
          </a:prstGeom>
          <a:solidFill>
            <a:srgbClr val="ff0000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gu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0" name=""/>
          <p:cNvCxnSpPr>
            <a:stCxn id="317" idx="0"/>
            <a:endCxn id="329" idx="3"/>
          </p:cNvCxnSpPr>
          <p:nvPr/>
        </p:nvCxnSpPr>
        <p:spPr>
          <a:xfrm flipV="1" rot="16200000">
            <a:off x="2970360" y="4024440"/>
            <a:ext cx="216720" cy="1329480"/>
          </a:xfrm>
          <a:prstGeom prst="curvedConnector2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31" name=""/>
          <p:cNvCxnSpPr>
            <a:stCxn id="329" idx="0"/>
            <a:endCxn id="325" idx="2"/>
          </p:cNvCxnSpPr>
          <p:nvPr/>
        </p:nvCxnSpPr>
        <p:spPr>
          <a:xfrm flipH="1" flipV="1" rot="5400000">
            <a:off x="477720" y="3004560"/>
            <a:ext cx="1764360" cy="18000"/>
          </a:xfrm>
          <a:prstGeom prst="curvedConnector5">
            <a:avLst>
              <a:gd name="adj1" fmla="val 48857"/>
              <a:gd name="adj2" fmla="val 48979"/>
              <a:gd name="adj3" fmla="val 48857"/>
            </a:avLst>
          </a:prstGeom>
          <a:ln w="5724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2556000" y="1484280"/>
            <a:ext cx="4032000" cy="2160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ulation Argument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clusion: tak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mulation menac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somewhat) serious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24000" y="4292640"/>
            <a:ext cx="2376360" cy="7920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tend r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4292640"/>
            <a:ext cx="2376360" cy="7938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ddress que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156360" y="4292640"/>
            <a:ext cx="2448000" cy="9367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plo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amif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95280" y="260280"/>
            <a:ext cx="3456000" cy="79236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My aims here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7" name=""/>
          <p:cNvCxnSpPr>
            <a:stCxn id="336" idx="3"/>
            <a:endCxn id="332" idx="0"/>
          </p:cNvCxnSpPr>
          <p:nvPr/>
        </p:nvCxnSpPr>
        <p:spPr>
          <a:xfrm>
            <a:off x="3851280" y="657000"/>
            <a:ext cx="721440" cy="827640"/>
          </a:xfrm>
          <a:prstGeom prst="curved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38" name=""/>
          <p:cNvCxnSpPr>
            <a:stCxn id="336" idx="2"/>
            <a:endCxn id="332" idx="1"/>
          </p:cNvCxnSpPr>
          <p:nvPr/>
        </p:nvCxnSpPr>
        <p:spPr>
          <a:xfrm flipH="1" rot="16200000">
            <a:off x="1583640" y="1592640"/>
            <a:ext cx="1513440" cy="432720"/>
          </a:xfrm>
          <a:prstGeom prst="curved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39" name=""/>
          <p:cNvCxnSpPr>
            <a:stCxn id="332" idx="2"/>
            <a:endCxn id="335" idx="0"/>
          </p:cNvCxnSpPr>
          <p:nvPr/>
        </p:nvCxnSpPr>
        <p:spPr>
          <a:xfrm flipH="1" rot="16200000">
            <a:off x="5651280" y="2564280"/>
            <a:ext cx="648360" cy="2809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40" name=""/>
          <p:cNvCxnSpPr>
            <a:stCxn id="332" idx="2"/>
            <a:endCxn id="333" idx="0"/>
          </p:cNvCxnSpPr>
          <p:nvPr/>
        </p:nvCxnSpPr>
        <p:spPr>
          <a:xfrm rot="5400000">
            <a:off x="2718000" y="2439000"/>
            <a:ext cx="648360" cy="306000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41" name=""/>
          <p:cNvCxnSpPr>
            <a:stCxn id="332" idx="2"/>
            <a:endCxn id="334" idx="0"/>
          </p:cNvCxnSpPr>
          <p:nvPr/>
        </p:nvCxnSpPr>
        <p:spPr>
          <a:xfrm rot="5400000">
            <a:off x="4194360" y="3915360"/>
            <a:ext cx="648360" cy="1069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2376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Next: </a:t>
            </a: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Why believe menacing simulations might exist in the required (vast) numbers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1042920" y="3068640"/>
            <a:ext cx="6624720" cy="3318480"/>
            <a:chOff x="1042920" y="3068640"/>
            <a:chExt cx="6624720" cy="3318480"/>
          </a:xfrm>
        </p:grpSpPr>
        <p:sp>
          <p:nvSpPr>
            <p:cNvPr id="344" name=""/>
            <p:cNvSpPr/>
            <p:nvPr/>
          </p:nvSpPr>
          <p:spPr>
            <a:xfrm>
              <a:off x="1042920" y="4077000"/>
              <a:ext cx="2305080" cy="7189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Arial"/>
                </a:rPr>
                <a:t>6 billion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547640" y="3068640"/>
              <a:ext cx="136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Arial"/>
                </a:rPr>
                <a:t>actual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219640" y="3789360"/>
              <a:ext cx="2448000" cy="7192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Arial"/>
                </a:rPr>
                <a:t>60 billion?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651640" y="3141720"/>
              <a:ext cx="1366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Arial"/>
                </a:rPr>
                <a:t>virtual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979640" y="5805720"/>
              <a:ext cx="547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Arial"/>
                </a:rPr>
                <a:t>Type-2003 day/life stream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219640" y="4869000"/>
              <a:ext cx="2448000" cy="7192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Arial"/>
                </a:rPr>
                <a:t>600 billion??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"/>
          <p:cNvGrpSpPr/>
          <p:nvPr/>
        </p:nvGrpSpPr>
        <p:grpSpPr>
          <a:xfrm>
            <a:off x="755640" y="1052640"/>
            <a:ext cx="7127640" cy="5471640"/>
            <a:chOff x="755640" y="1052640"/>
            <a:chExt cx="7127640" cy="5471640"/>
          </a:xfrm>
        </p:grpSpPr>
        <p:sp>
          <p:nvSpPr>
            <p:cNvPr id="351" name=""/>
            <p:cNvSpPr/>
            <p:nvPr/>
          </p:nvSpPr>
          <p:spPr>
            <a:xfrm>
              <a:off x="3249360" y="1052640"/>
              <a:ext cx="2566080" cy="128376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Two method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of simulati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generati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55640" y="3011040"/>
              <a:ext cx="2566080" cy="128340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S-simulation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317200" y="3011040"/>
              <a:ext cx="2566080" cy="128340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-simulation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249360" y="5240880"/>
              <a:ext cx="2566080" cy="128340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Two types of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simulati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55" name=""/>
            <p:cNvCxnSpPr>
              <a:stCxn id="351" idx="1"/>
              <a:endCxn id="352" idx="0"/>
            </p:cNvCxnSpPr>
            <p:nvPr/>
          </p:nvCxnSpPr>
          <p:spPr>
            <a:xfrm flipV="1" rot="10800000">
              <a:off x="2038320" y="1694520"/>
              <a:ext cx="1210680" cy="1316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56" name=""/>
            <p:cNvCxnSpPr>
              <a:stCxn id="354" idx="1"/>
              <a:endCxn id="352" idx="2"/>
            </p:cNvCxnSpPr>
            <p:nvPr/>
          </p:nvCxnSpPr>
          <p:spPr>
            <a:xfrm rot="10800000">
              <a:off x="2038320" y="4294080"/>
              <a:ext cx="1210680" cy="158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57" name=""/>
            <p:cNvCxnSpPr>
              <a:stCxn id="351" idx="3"/>
              <a:endCxn id="353" idx="0"/>
            </p:cNvCxnSpPr>
            <p:nvPr/>
          </p:nvCxnSpPr>
          <p:spPr>
            <a:xfrm>
              <a:off x="5815440" y="1694520"/>
              <a:ext cx="786240" cy="1316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58" name=""/>
            <p:cNvCxnSpPr>
              <a:stCxn id="354" idx="3"/>
              <a:endCxn id="353" idx="2"/>
            </p:cNvCxnSpPr>
            <p:nvPr/>
          </p:nvCxnSpPr>
          <p:spPr>
            <a:xfrm flipV="1">
              <a:off x="5815440" y="4294440"/>
              <a:ext cx="786240" cy="158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359" name=""/>
            <p:cNvSpPr/>
            <p:nvPr/>
          </p:nvSpPr>
          <p:spPr>
            <a:xfrm>
              <a:off x="3606120" y="3416400"/>
              <a:ext cx="1497240" cy="473400"/>
            </a:xfrm>
            <a:prstGeom prst="leftRightArrow">
              <a:avLst>
                <a:gd name="adj1" fmla="val 50000"/>
                <a:gd name="adj2" fmla="val 62962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319640" y="2403360"/>
              <a:ext cx="213480" cy="2701440"/>
            </a:xfrm>
            <a:prstGeom prst="downArrow">
              <a:avLst>
                <a:gd name="adj1" fmla="val 50000"/>
                <a:gd name="adj2" fmla="val 316358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0" y="0"/>
            <a:ext cx="49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other distinc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4171680" cy="4525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S-simulations: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nscious lives generated by running 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software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on comput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NOT brains!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788000" y="620640"/>
            <a:ext cx="4038480" cy="4525920"/>
          </a:xfrm>
          <a:prstGeom prst="rect">
            <a:avLst/>
          </a:prstGeom>
          <a:noFill/>
          <a:ln w="19080">
            <a:solidFill>
              <a:srgbClr val="99ff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H-simulation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nscious lives produced by directly tampering with neural 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hard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trix-sty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vat-br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24000" y="5445000"/>
            <a:ext cx="4176720" cy="107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MPUT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L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788000" y="5445000"/>
            <a:ext cx="4176720" cy="107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MPUT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+ BR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397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-sims: the high-ro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484360" y="1773360"/>
            <a:ext cx="3959280" cy="792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sthumanism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84360" y="3357720"/>
            <a:ext cx="3024000" cy="11523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uters of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ST po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076720" y="3357720"/>
            <a:ext cx="3024360" cy="11523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positories o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st conscious li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70" name=""/>
          <p:cNvCxnSpPr>
            <a:stCxn id="367" idx="2"/>
            <a:endCxn id="368" idx="0"/>
          </p:cNvCxnSpPr>
          <p:nvPr/>
        </p:nvCxnSpPr>
        <p:spPr>
          <a:xfrm rot="5400000">
            <a:off x="2933640" y="1827720"/>
            <a:ext cx="793080" cy="2267640"/>
          </a:xfrm>
          <a:prstGeom prst="curvedConnector5">
            <a:avLst>
              <a:gd name="adj1" fmla="val 49863"/>
              <a:gd name="adj2" fmla="val 50000"/>
              <a:gd name="adj3" fmla="val 49863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71" name=""/>
          <p:cNvCxnSpPr>
            <a:stCxn id="367" idx="2"/>
            <a:endCxn id="369" idx="0"/>
          </p:cNvCxnSpPr>
          <p:nvPr/>
        </p:nvCxnSpPr>
        <p:spPr>
          <a:xfrm flipH="1" rot="16200000">
            <a:off x="5129640" y="1898280"/>
            <a:ext cx="793080" cy="2126520"/>
          </a:xfrm>
          <a:prstGeom prst="curvedConnector5">
            <a:avLst>
              <a:gd name="adj1" fmla="val 49863"/>
              <a:gd name="adj2" fmla="val 50000"/>
              <a:gd name="adj3" fmla="val 49863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"/>
          <p:cNvGrpSpPr/>
          <p:nvPr/>
        </p:nvGrpSpPr>
        <p:grpSpPr>
          <a:xfrm>
            <a:off x="971640" y="476280"/>
            <a:ext cx="7919640" cy="1655640"/>
            <a:chOff x="971640" y="476280"/>
            <a:chExt cx="7919640" cy="1655640"/>
          </a:xfrm>
        </p:grpSpPr>
        <p:sp>
          <p:nvSpPr>
            <p:cNvPr id="373" name=""/>
            <p:cNvSpPr/>
            <p:nvPr/>
          </p:nvSpPr>
          <p:spPr>
            <a:xfrm>
              <a:off x="971640" y="818640"/>
              <a:ext cx="2917440" cy="9136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universal computer’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861800" y="476280"/>
              <a:ext cx="4029480" cy="165564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many simulation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f every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Arial"/>
                </a:rPr>
                <a:t>possible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huma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tream of consciousnes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(of finite duration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028400" y="1161000"/>
              <a:ext cx="624960" cy="285480"/>
            </a:xfrm>
            <a:prstGeom prst="rightArrow">
              <a:avLst>
                <a:gd name="adj1" fmla="val 50000"/>
                <a:gd name="adj2" fmla="val 54729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755640" y="2924280"/>
            <a:ext cx="3382920" cy="3311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anetary-mas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10</a:t>
            </a:r>
            <a:r>
              <a:rPr b="0" lang="en-GB" sz="2400" spc="-1" strike="noStrike" baseline="30000">
                <a:solidFill>
                  <a:srgbClr val="0033cc"/>
                </a:solidFill>
                <a:latin typeface="Arial"/>
              </a:rPr>
              <a:t>42 </a:t>
            </a: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o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219640" y="3068640"/>
            <a:ext cx="2158920" cy="1922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ime required for running of ‘ancestor simulation’ = 10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-7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6" idx="6"/>
            <a:endCxn id="377" idx="1"/>
          </p:cNvCxnSpPr>
          <p:nvPr/>
        </p:nvCxnSpPr>
        <p:spPr>
          <a:xfrm flipV="1">
            <a:off x="4138200" y="4041000"/>
            <a:ext cx="1067400" cy="538920"/>
          </a:xfrm>
          <a:prstGeom prst="curvedConnector5">
            <a:avLst>
              <a:gd name="adj1" fmla="val 50573"/>
              <a:gd name="adj2" fmla="val 50000"/>
              <a:gd name="adj3" fmla="val 50573"/>
            </a:avLst>
          </a:prstGeom>
          <a:ln w="572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79" name=""/>
          <p:cNvSpPr/>
          <p:nvPr/>
        </p:nvSpPr>
        <p:spPr>
          <a:xfrm>
            <a:off x="3924360" y="5516640"/>
            <a:ext cx="151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one of man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692360" y="26028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ip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476360" y="234936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ostr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468000" y="4076640"/>
            <a:ext cx="8435880" cy="936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00 billion humans x 50 years/human x 3 million secs per year x 10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14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– 10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17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s per brain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1280" y="0"/>
            <a:ext cx="7920000" cy="119124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Ancestor simulation’ = simulation of entire mental history of humanki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68360" y="1989000"/>
            <a:ext cx="3600360" cy="1373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ypical human brain: operations per second = 10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14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- 10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1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076720" y="1989000"/>
            <a:ext cx="3745080" cy="1373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ps required for 1 ancestor simulation = 10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32-3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86" name=""/>
          <p:cNvCxnSpPr>
            <a:stCxn id="384" idx="3"/>
            <a:endCxn id="385" idx="1"/>
          </p:cNvCxnSpPr>
          <p:nvPr/>
        </p:nvCxnSpPr>
        <p:spPr>
          <a:xfrm>
            <a:off x="4078080" y="2685600"/>
            <a:ext cx="989280" cy="10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7" name=""/>
          <p:cNvCxnSpPr>
            <a:stCxn id="382" idx="0"/>
            <a:endCxn id="385" idx="2"/>
          </p:cNvCxnSpPr>
          <p:nvPr/>
        </p:nvCxnSpPr>
        <p:spPr>
          <a:xfrm flipH="1" flipV="1" rot="5400000">
            <a:off x="5479920" y="2596680"/>
            <a:ext cx="677160" cy="22644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88" name=""/>
          <p:cNvSpPr/>
          <p:nvPr/>
        </p:nvSpPr>
        <p:spPr>
          <a:xfrm>
            <a:off x="1258920" y="5373720"/>
            <a:ext cx="6624720" cy="947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assumption: humankind superseded in a few centuri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1776600" cy="163044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4716360" y="1773360"/>
            <a:ext cx="1776600" cy="163008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3"/>
          <a:stretch/>
        </p:blipFill>
        <p:spPr>
          <a:xfrm>
            <a:off x="2627280" y="1773360"/>
            <a:ext cx="1776600" cy="163008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4"/>
          <a:stretch/>
        </p:blipFill>
        <p:spPr>
          <a:xfrm>
            <a:off x="6659640" y="1844640"/>
            <a:ext cx="1776240" cy="163044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5"/>
          <a:stretch/>
        </p:blipFill>
        <p:spPr>
          <a:xfrm>
            <a:off x="684360" y="3933720"/>
            <a:ext cx="1776240" cy="163044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6"/>
          <a:stretch/>
        </p:blipFill>
        <p:spPr>
          <a:xfrm>
            <a:off x="4716360" y="3860640"/>
            <a:ext cx="1776600" cy="163044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7"/>
          <a:stretch/>
        </p:blipFill>
        <p:spPr>
          <a:xfrm>
            <a:off x="2627280" y="3933720"/>
            <a:ext cx="1776600" cy="163044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8"/>
          <a:stretch/>
        </p:blipFill>
        <p:spPr>
          <a:xfrm>
            <a:off x="6659640" y="4005360"/>
            <a:ext cx="1776240" cy="163044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-simulations: low ro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Preliminary (crude) definitions: </a:t>
            </a: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real v. simulated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experienc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is 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simulated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f it is produced by non-standard methods in a controlled fash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on-standard = NOT by bodies/brains interacting with physical enviro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g. Demons,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lif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(or part of one) is 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virtual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f it is composed of simulated experien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0752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ecff"/>
                </a:solidFill>
                <a:latin typeface="Arial"/>
              </a:rPr>
              <a:t>Desktop PC Power: next few year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659640" y="3213000"/>
            <a:ext cx="21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ypical human br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92720" y="50846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030-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258920" y="5734080"/>
            <a:ext cx="67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Moore’s Law’:  computational power per $ doubles every two y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179280" y="1484280"/>
            <a:ext cx="8604360" cy="3917160"/>
            <a:chOff x="179280" y="1484280"/>
            <a:chExt cx="8604360" cy="3917160"/>
          </a:xfrm>
        </p:grpSpPr>
        <p:sp>
          <p:nvSpPr>
            <p:cNvPr id="403" name=""/>
            <p:cNvSpPr/>
            <p:nvPr/>
          </p:nvSpPr>
          <p:spPr>
            <a:xfrm>
              <a:off x="611280" y="4797360"/>
              <a:ext cx="590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6515280" y="2420640"/>
              <a:ext cx="0" cy="23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5940360" y="3571920"/>
              <a:ext cx="57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88000" y="1773360"/>
              <a:ext cx="2195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computational powe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68360" y="4941720"/>
              <a:ext cx="21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476360" y="2492280"/>
              <a:ext cx="4824360" cy="2111400"/>
            </a:xfrm>
            <a:custGeom>
              <a:avLst/>
              <a:gdLst/>
              <a:ahLst/>
              <a:rect l="l" t="t" r="r" b="b"/>
              <a:pathLst>
                <a:path w="3039" h="1330">
                  <a:moveTo>
                    <a:pt x="0" y="1316"/>
                  </a:moveTo>
                  <a:cubicBezTo>
                    <a:pt x="532" y="1323"/>
                    <a:pt x="1065" y="1330"/>
                    <a:pt x="1496" y="1270"/>
                  </a:cubicBezTo>
                  <a:cubicBezTo>
                    <a:pt x="1927" y="1210"/>
                    <a:pt x="2328" y="1165"/>
                    <a:pt x="2585" y="953"/>
                  </a:cubicBezTo>
                  <a:cubicBezTo>
                    <a:pt x="2842" y="741"/>
                    <a:pt x="2940" y="370"/>
                    <a:pt x="3039" y="0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940360" y="3573360"/>
              <a:ext cx="0" cy="12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50920" y="1484280"/>
              <a:ext cx="2195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Predictions: Kurzweil, Morave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203640" y="2349360"/>
              <a:ext cx="1944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100 million op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211640" y="2924280"/>
              <a:ext cx="1584360" cy="57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79280" y="3284640"/>
              <a:ext cx="3240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ffffff"/>
                  </a:solidFill>
                  <a:latin typeface="Arial"/>
                </a:rPr>
                <a:t>Supercomputer (circa 2000) = 10 million op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059280" y="4005360"/>
              <a:ext cx="1944360" cy="21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-simulations: low road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mall-scale sims; on small machines (e.g. deskto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 large numbers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ntertainment: God-games (‘The Sims’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search: historical, politi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.g. exploring counterfactual histo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ver many years (a few centuri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= billions of menacing simul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God games: ‘The Sims’, ‘Civilization’, etc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urrently, their ‘inhabitants’ are 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not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sci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 future: that could chang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ore processing power/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ore autonomous characters -&gt; more entertaining specta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An ordinary (virtual) family: ‘The Sims’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755640" y="1035000"/>
            <a:ext cx="7777080" cy="58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70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Sample numbers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20 million simulated T(2003) day-streams per y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ssume: very large future 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or 100,000 yea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ssume: quite l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tal of: 2000 billion menacing d-stre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: significant simulation menace (50%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pprox 2000 billion actual 2003 d-stre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1692360" y="0"/>
            <a:ext cx="6408720" cy="746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-simulations: how great a menac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484360" y="5013360"/>
            <a:ext cx="3743280" cy="129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upposes v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roversial theory o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2556000" y="3716280"/>
            <a:ext cx="3959280" cy="1008000"/>
            <a:chOff x="2556000" y="3716280"/>
            <a:chExt cx="3959280" cy="1008000"/>
          </a:xfrm>
        </p:grpSpPr>
        <p:sp>
          <p:nvSpPr>
            <p:cNvPr id="428" name=""/>
            <p:cNvSpPr/>
            <p:nvPr/>
          </p:nvSpPr>
          <p:spPr>
            <a:xfrm>
              <a:off x="2556000" y="3787560"/>
              <a:ext cx="144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Arial"/>
                </a:rPr>
                <a:t>BUT!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075280" y="3716280"/>
              <a:ext cx="144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Arial"/>
                </a:rPr>
                <a:t>BUT!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996000" y="3787560"/>
              <a:ext cx="792000" cy="936720"/>
            </a:xfrm>
            <a:prstGeom prst="downArrow">
              <a:avLst>
                <a:gd name="adj1" fmla="val 50000"/>
                <a:gd name="adj2" fmla="val 29568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395280" y="2133720"/>
            <a:ext cx="2089080" cy="93636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utation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24000" y="1125360"/>
            <a:ext cx="2160360" cy="8654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gram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now-h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076720" y="1916280"/>
            <a:ext cx="863640" cy="502920"/>
          </a:xfrm>
          <a:prstGeom prst="rightArrow">
            <a:avLst>
              <a:gd name="adj1" fmla="val 50000"/>
              <a:gd name="adj2" fmla="val 42931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300720" y="1484280"/>
            <a:ext cx="2305080" cy="14414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irtual l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ST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rot="5400000">
            <a:off x="2302560" y="873720"/>
            <a:ext cx="433080" cy="4680000"/>
          </a:xfrm>
          <a:custGeom>
            <a:avLst/>
            <a:gdLst>
              <a:gd name="textAreaLeft" fmla="*/ 0 w 433080"/>
              <a:gd name="textAreaRight" fmla="*/ 156240 w 433080"/>
              <a:gd name="textAreaTop" fmla="*/ 122040 h 4680000"/>
              <a:gd name="textAreaBottom" fmla="*/ 4557960 h 468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771640" y="1125360"/>
            <a:ext cx="1800360" cy="8654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771640" y="2133720"/>
            <a:ext cx="1800360" cy="8650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l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2484360" y="189000"/>
            <a:ext cx="4032360" cy="1873080"/>
          </a:xfrm>
          <a:prstGeom prst="rect">
            <a:avLst/>
          </a:prstGeom>
          <a:solidFill>
            <a:srgbClr val="808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Q: How worry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s the computat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imulation mena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0920" y="2492280"/>
            <a:ext cx="2663640" cy="792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ctionali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0920" y="3500280"/>
            <a:ext cx="2663640" cy="936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n-reduc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ctionali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084720" y="2492280"/>
            <a:ext cx="2664000" cy="79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teriali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084720" y="3500280"/>
            <a:ext cx="2664000" cy="863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uali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68360" y="692280"/>
            <a:ext cx="1800000" cy="1152360"/>
          </a:xfrm>
          <a:prstGeom prst="cloudCallout">
            <a:avLst>
              <a:gd name="adj1" fmla="val 10138"/>
              <a:gd name="adj2" fmla="val 110055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ery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948360" y="620640"/>
            <a:ext cx="1800360" cy="1152720"/>
          </a:xfrm>
          <a:prstGeom prst="cloudCallout">
            <a:avLst>
              <a:gd name="adj1" fmla="val -25574"/>
              <a:gd name="adj2" fmla="val 11818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’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11280" y="4581360"/>
            <a:ext cx="208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oema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yc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lm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372360" y="4581360"/>
            <a:ext cx="201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scar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mart/Pl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ar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aw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cGi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3313080" cy="216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Broadening</a:t>
            </a:r>
            <a:br>
              <a:rPr sz="4000"/>
            </a:b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‘appeal’ of </a:t>
            </a:r>
            <a:br>
              <a:rPr sz="4000"/>
            </a:b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Sim. Arg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012000" y="549360"/>
            <a:ext cx="2806560" cy="1944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ther 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f menac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284720" y="1268280"/>
            <a:ext cx="1224000" cy="576360"/>
          </a:xfrm>
          <a:prstGeom prst="rightArrow">
            <a:avLst>
              <a:gd name="adj1" fmla="val 50000"/>
              <a:gd name="adj2" fmla="val 53092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572000" y="3500280"/>
            <a:ext cx="2376360" cy="15843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-SI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48" idx="2"/>
            <a:endCxn id="450" idx="3"/>
          </p:cNvCxnSpPr>
          <p:nvPr/>
        </p:nvCxnSpPr>
        <p:spPr>
          <a:xfrm rot="5400000">
            <a:off x="6281640" y="3159720"/>
            <a:ext cx="1799280" cy="467640"/>
          </a:xfrm>
          <a:prstGeom prst="curvedConnector2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452" name=""/>
          <p:cNvSpPr/>
          <p:nvPr/>
        </p:nvSpPr>
        <p:spPr>
          <a:xfrm>
            <a:off x="324000" y="4005360"/>
            <a:ext cx="2374920" cy="1225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s run 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bra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50" idx="1"/>
            <a:endCxn id="452" idx="3"/>
          </p:cNvCxnSpPr>
          <p:nvPr/>
        </p:nvCxnSpPr>
        <p:spPr>
          <a:xfrm flipH="1">
            <a:off x="2698200" y="4292640"/>
            <a:ext cx="1873800" cy="326160"/>
          </a:xfrm>
          <a:prstGeom prst="straightConnector1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Just suppose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384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at when the universe is considered as a whole, from a God’s eye vantage point, simulated lives greatly outnumber real l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all this scenario: ‘simulation dominance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5148360" y="1557360"/>
            <a:ext cx="358128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95280" y="595008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Neural interface technology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2484360" y="333360"/>
            <a:ext cx="4272120" cy="55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1476360" y="1052640"/>
            <a:ext cx="6265800" cy="46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2050920" y="260280"/>
            <a:ext cx="4896000" cy="935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-SIMS: high roa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132000" y="1773360"/>
            <a:ext cx="2806920" cy="12240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rain-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95280" y="2708280"/>
            <a:ext cx="2160720" cy="10080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ip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588000" y="2708280"/>
            <a:ext cx="2160720" cy="10080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no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ginee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61" name=""/>
          <p:cNvCxnSpPr>
            <a:stCxn id="458" idx="1"/>
            <a:endCxn id="459" idx="0"/>
          </p:cNvCxnSpPr>
          <p:nvPr/>
        </p:nvCxnSpPr>
        <p:spPr>
          <a:xfrm flipV="1" rot="10800000">
            <a:off x="1475640" y="2385000"/>
            <a:ext cx="1656360" cy="322920"/>
          </a:xfrm>
          <a:prstGeom prst="bent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58" idx="3"/>
            <a:endCxn id="460" idx="0"/>
          </p:cNvCxnSpPr>
          <p:nvPr/>
        </p:nvCxnSpPr>
        <p:spPr>
          <a:xfrm>
            <a:off x="5938920" y="2385720"/>
            <a:ext cx="1730880" cy="322920"/>
          </a:xfrm>
          <a:prstGeom prst="bent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63" name=""/>
          <p:cNvSpPr/>
          <p:nvPr/>
        </p:nvSpPr>
        <p:spPr>
          <a:xfrm>
            <a:off x="3132000" y="4365720"/>
            <a:ext cx="2806920" cy="12240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lly immers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64" name=""/>
          <p:cNvCxnSpPr>
            <a:stCxn id="459" idx="2"/>
            <a:endCxn id="463" idx="0"/>
          </p:cNvCxnSpPr>
          <p:nvPr/>
        </p:nvCxnSpPr>
        <p:spPr>
          <a:xfrm flipH="1" rot="16200000">
            <a:off x="2681280" y="2511000"/>
            <a:ext cx="650160" cy="3060000"/>
          </a:xfrm>
          <a:prstGeom prst="bentConnector3">
            <a:avLst>
              <a:gd name="adj1" fmla="val 49861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65" name=""/>
          <p:cNvCxnSpPr>
            <a:stCxn id="460" idx="2"/>
            <a:endCxn id="463" idx="0"/>
          </p:cNvCxnSpPr>
          <p:nvPr/>
        </p:nvCxnSpPr>
        <p:spPr>
          <a:xfrm rot="5400000">
            <a:off x="5776920" y="2474280"/>
            <a:ext cx="650160" cy="3134160"/>
          </a:xfrm>
          <a:prstGeom prst="bentConnector3">
            <a:avLst>
              <a:gd name="adj1" fmla="val 49861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66" name=""/>
          <p:cNvSpPr/>
          <p:nvPr/>
        </p:nvSpPr>
        <p:spPr>
          <a:xfrm>
            <a:off x="1116000" y="5950080"/>
            <a:ext cx="2376360" cy="720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sych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580000" y="5950080"/>
            <a:ext cx="2376720" cy="720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ce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63" idx="2"/>
            <a:endCxn id="466" idx="3"/>
          </p:cNvCxnSpPr>
          <p:nvPr/>
        </p:nvCxnSpPr>
        <p:spPr>
          <a:xfrm rot="5400000">
            <a:off x="3653280" y="5428440"/>
            <a:ext cx="721440" cy="1043640"/>
          </a:xfrm>
          <a:prstGeom prst="bent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69" name=""/>
          <p:cNvCxnSpPr>
            <a:stCxn id="463" idx="2"/>
            <a:endCxn id="467" idx="1"/>
          </p:cNvCxnSpPr>
          <p:nvPr/>
        </p:nvCxnSpPr>
        <p:spPr>
          <a:xfrm flipH="1" rot="16200000">
            <a:off x="4696560" y="5427720"/>
            <a:ext cx="721440" cy="1045080"/>
          </a:xfrm>
          <a:prstGeom prst="bent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1476360" y="4365720"/>
            <a:ext cx="1655640" cy="124128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5940360" y="4365720"/>
            <a:ext cx="165744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2050920" y="260280"/>
            <a:ext cx="4896000" cy="935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-SIMS: low roa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132000" y="1773360"/>
            <a:ext cx="2806920" cy="1224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rol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llucin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87640" y="5300640"/>
            <a:ext cx="3168720" cy="10080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lly immersive V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132000" y="3645000"/>
            <a:ext cx="2806920" cy="9363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loit know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ain potent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11280" y="2708280"/>
            <a:ext cx="1944720" cy="1008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a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ist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659640" y="2781360"/>
            <a:ext cx="1944720" cy="1008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u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ist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78" name=""/>
          <p:cNvCxnSpPr>
            <a:stCxn id="473" idx="1"/>
            <a:endCxn id="476" idx="0"/>
          </p:cNvCxnSpPr>
          <p:nvPr/>
        </p:nvCxnSpPr>
        <p:spPr>
          <a:xfrm flipV="1" rot="10800000">
            <a:off x="1583640" y="2385000"/>
            <a:ext cx="1548360" cy="322920"/>
          </a:xfrm>
          <a:prstGeom prst="bent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79" name=""/>
          <p:cNvCxnSpPr>
            <a:stCxn id="473" idx="3"/>
            <a:endCxn id="477" idx="0"/>
          </p:cNvCxnSpPr>
          <p:nvPr/>
        </p:nvCxnSpPr>
        <p:spPr>
          <a:xfrm>
            <a:off x="5938560" y="2386080"/>
            <a:ext cx="1694520" cy="396000"/>
          </a:xfrm>
          <a:prstGeom prst="bent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80" name=""/>
          <p:cNvCxnSpPr>
            <a:stCxn id="476" idx="2"/>
            <a:endCxn id="474" idx="1"/>
          </p:cNvCxnSpPr>
          <p:nvPr/>
        </p:nvCxnSpPr>
        <p:spPr>
          <a:xfrm flipH="1" rot="16200000">
            <a:off x="1241280" y="4058640"/>
            <a:ext cx="2089800" cy="1404000"/>
          </a:xfrm>
          <a:prstGeom prst="bent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81" name=""/>
          <p:cNvCxnSpPr>
            <a:stCxn id="477" idx="2"/>
            <a:endCxn id="474" idx="3"/>
          </p:cNvCxnSpPr>
          <p:nvPr/>
        </p:nvCxnSpPr>
        <p:spPr>
          <a:xfrm rot="5400000">
            <a:off x="5885640" y="4059000"/>
            <a:ext cx="2016720" cy="1477080"/>
          </a:xfrm>
          <a:prstGeom prst="bent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280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One scenario: VR in educatio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Imagine: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a typical 23</a:t>
            </a:r>
            <a:r>
              <a:rPr b="1" lang="en-GB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century history les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pic: life as an ordinary 21</a:t>
            </a:r>
            <a:r>
              <a:rPr b="1" lang="en-GB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century per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ethod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fully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immersive virtual reality ‘trip’ to the pa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pend a few hours AS an ordinary 21</a:t>
            </a:r>
            <a:r>
              <a:rPr b="1" lang="en-GB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century per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4716360" y="1557360"/>
            <a:ext cx="4176720" cy="31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H-sims: will the technologies ever be developed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i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hard for us to envisage how (say) brain-machine interfaces of the kind required could be designed &amp; implemen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ut: remember Arthur C. Clarke’s ‘Third Law’: ‘Any sufficiently advanced technology is indistinguishable from magic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ink: what would a 19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century person have made of modern computers, atomic weapons, genetic manipulation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H-sims technology: further reasons for ‘optimism’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euroscience: we still have much to lea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search in nano-technology, programmable matter continues a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oney no problem: entertainment indu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mputer games bigger than mov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MMOG phenomenon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 indicator of what’s to com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684360" y="333360"/>
            <a:ext cx="2376360" cy="1368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MO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132000" y="404640"/>
            <a:ext cx="5400720" cy="1224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ssive multipl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line gaming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042920" y="2349360"/>
            <a:ext cx="2735280" cy="212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Ultima On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Everqu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narchy On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……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55640" y="4869000"/>
            <a:ext cx="2376360" cy="1368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MPOR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203640" y="5013360"/>
            <a:ext cx="5400720" cy="1224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ssive, multiplayer, on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ole-playing gam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500720" y="2060640"/>
            <a:ext cx="410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rsistent world game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00720" y="2924280"/>
            <a:ext cx="4248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ticipants = 120,000 (simu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00720" y="3789360"/>
            <a:ext cx="410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oriously addic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0" y="585720"/>
            <a:ext cx="9144000" cy="6272280"/>
          </a:xfrm>
          <a:prstGeom prst="rect">
            <a:avLst/>
          </a:prstGeom>
          <a:ln w="0">
            <a:noFill/>
          </a:ln>
        </p:spPr>
      </p:pic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MOG: screensho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40720" cy="69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Simulation Dominance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332000" y="1413000"/>
            <a:ext cx="6769080" cy="38163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virtu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508720" y="2349360"/>
            <a:ext cx="1224000" cy="7207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5516640"/>
            <a:ext cx="5761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um total of conscious lives (in entire universe, all times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684360" y="260280"/>
            <a:ext cx="2376360" cy="1368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MO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508720" y="260280"/>
            <a:ext cx="2376360" cy="1368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MPOR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84360" y="5300640"/>
            <a:ext cx="817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Big money in sim technology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1692360" y="2060640"/>
            <a:ext cx="5689440" cy="23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$$$$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H-sims: relevant predi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987640" y="1557360"/>
            <a:ext cx="2806560" cy="122400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R trips to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st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258920" y="3357720"/>
            <a:ext cx="2806560" cy="1223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possible …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003640" y="3357720"/>
            <a:ext cx="2953080" cy="122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RY numerou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09" name=""/>
          <p:cNvCxnSpPr>
            <a:stCxn id="506" idx="1"/>
            <a:endCxn id="507" idx="1"/>
          </p:cNvCxnSpPr>
          <p:nvPr/>
        </p:nvCxnSpPr>
        <p:spPr>
          <a:xfrm flipV="1" rot="10800000">
            <a:off x="1258200" y="2169000"/>
            <a:ext cx="1715040" cy="1801080"/>
          </a:xfrm>
          <a:prstGeom prst="bentConnector3">
            <a:avLst>
              <a:gd name="adj1" fmla="val 113331"/>
            </a:avLst>
          </a:prstGeom>
          <a:ln w="572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10" name=""/>
          <p:cNvCxnSpPr>
            <a:stCxn id="507" idx="3"/>
            <a:endCxn id="508" idx="1"/>
          </p:cNvCxnSpPr>
          <p:nvPr/>
        </p:nvCxnSpPr>
        <p:spPr>
          <a:xfrm>
            <a:off x="4065480" y="3970080"/>
            <a:ext cx="938880" cy="108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VR-vacations: sample numbers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ctual 2003 d-streams: 2 x 10</a:t>
            </a:r>
            <a:r>
              <a:rPr b="0" lang="en-GB" sz="3200" spc="-1" strike="noStrike" baseline="30000">
                <a:solidFill>
                  <a:srgbClr val="ffffff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ssum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very sim-age person takes 1 trip to early 21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centu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0,000 sim-age gen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verage sim-age population = 10 bill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Yields: 1.0 x 10</a:t>
            </a:r>
            <a:r>
              <a:rPr b="0" lang="en-GB" sz="3200" spc="-1" strike="noStrike" baseline="30000">
                <a:solidFill>
                  <a:srgbClr val="ffffff"/>
                </a:solidFill>
                <a:latin typeface="Arial"/>
              </a:rPr>
              <a:t>14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irtual stre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: 1/50 chance of your life being re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2340000" y="260280"/>
            <a:ext cx="4392720" cy="122400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nacing Simula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rther possible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843280" y="1773360"/>
            <a:ext cx="3384360" cy="12240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DAL REALIS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95280" y="3573360"/>
            <a:ext cx="2736720" cy="1008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enacing S-si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= infin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724360" y="3645000"/>
            <a:ext cx="2880000" cy="1008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enacing H-si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= infin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514" idx="1"/>
            <a:endCxn id="515" idx="0"/>
          </p:cNvCxnSpPr>
          <p:nvPr/>
        </p:nvCxnSpPr>
        <p:spPr>
          <a:xfrm flipV="1" rot="10800000">
            <a:off x="1762920" y="2386080"/>
            <a:ext cx="1080360" cy="1187640"/>
          </a:xfrm>
          <a:prstGeom prst="curvedConnector2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518" name=""/>
          <p:cNvCxnSpPr>
            <a:stCxn id="514" idx="3"/>
            <a:endCxn id="516" idx="0"/>
          </p:cNvCxnSpPr>
          <p:nvPr/>
        </p:nvCxnSpPr>
        <p:spPr>
          <a:xfrm>
            <a:off x="6227640" y="2385720"/>
            <a:ext cx="937440" cy="1259640"/>
          </a:xfrm>
          <a:prstGeom prst="curvedConnector2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519" name=""/>
          <p:cNvSpPr/>
          <p:nvPr/>
        </p:nvSpPr>
        <p:spPr>
          <a:xfrm>
            <a:off x="3059280" y="5229360"/>
            <a:ext cx="3384360" cy="12240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wis, Tegmar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20" name=""/>
          <p:cNvCxnSpPr>
            <a:stCxn id="519" idx="0"/>
            <a:endCxn id="514" idx="2"/>
          </p:cNvCxnSpPr>
          <p:nvPr/>
        </p:nvCxnSpPr>
        <p:spPr>
          <a:xfrm flipV="1" rot="16200000">
            <a:off x="3526920" y="4005000"/>
            <a:ext cx="2232720" cy="216360"/>
          </a:xfrm>
          <a:prstGeom prst="bentConnector3">
            <a:avLst>
              <a:gd name="adj1" fmla="val 49991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2843280" y="189000"/>
            <a:ext cx="3384360" cy="1224000"/>
          </a:xfrm>
          <a:prstGeom prst="rect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DAL REALIS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2797200" y="2060640"/>
            <a:ext cx="5374800" cy="431640"/>
            <a:chOff x="2797200" y="2060640"/>
            <a:chExt cx="5374800" cy="431640"/>
          </a:xfrm>
        </p:grpSpPr>
        <p:sp>
          <p:nvSpPr>
            <p:cNvPr id="523" name=""/>
            <p:cNvSpPr/>
            <p:nvPr/>
          </p:nvSpPr>
          <p:spPr>
            <a:xfrm>
              <a:off x="2797200" y="2060640"/>
              <a:ext cx="353880" cy="4316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514680" y="2060640"/>
              <a:ext cx="353880" cy="4316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948920" y="2060640"/>
              <a:ext cx="353880" cy="4316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231800" y="2060640"/>
              <a:ext cx="353880" cy="4316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666400" y="2060640"/>
              <a:ext cx="353880" cy="4316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383520" y="2060640"/>
              <a:ext cx="353880" cy="4316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818120" y="2060640"/>
              <a:ext cx="353880" cy="4316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101000" y="2060640"/>
              <a:ext cx="353880" cy="4316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2797200" y="3213000"/>
            <a:ext cx="5374800" cy="432000"/>
            <a:chOff x="2797200" y="3213000"/>
            <a:chExt cx="5374800" cy="432000"/>
          </a:xfrm>
        </p:grpSpPr>
        <p:sp>
          <p:nvSpPr>
            <p:cNvPr id="532" name=""/>
            <p:cNvSpPr/>
            <p:nvPr/>
          </p:nvSpPr>
          <p:spPr>
            <a:xfrm>
              <a:off x="2797200" y="3213000"/>
              <a:ext cx="353880" cy="4320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514680" y="3213000"/>
              <a:ext cx="353880" cy="4320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948920" y="3213000"/>
              <a:ext cx="353880" cy="4320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231800" y="3213000"/>
              <a:ext cx="353880" cy="4320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666400" y="3213000"/>
              <a:ext cx="353880" cy="4320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383520" y="3213000"/>
              <a:ext cx="353880" cy="4320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818120" y="3213000"/>
              <a:ext cx="353880" cy="4320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101000" y="3213000"/>
              <a:ext cx="353880" cy="4320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179280" y="1989000"/>
            <a:ext cx="183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al l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49120" y="2924280"/>
            <a:ext cx="1839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irtual l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008160" y="263700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716280" y="263700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422600" y="263700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130720" y="263700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838840" y="263700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545160" y="263700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324560" y="263700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8032680" y="263700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348000" y="4076640"/>
            <a:ext cx="331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0% chance of virtu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8388360" y="1773360"/>
            <a:ext cx="10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∞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8388360" y="2924280"/>
            <a:ext cx="10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∞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916360" y="5516640"/>
            <a:ext cx="3384360" cy="1008000"/>
          </a:xfrm>
          <a:prstGeom prst="rect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NY WORLDS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Where do we stand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79280" y="1268280"/>
            <a:ext cx="626436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. Humankind will have a long and successful fut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79280" y="2349360"/>
            <a:ext cx="626436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. Technology will make realistic sims possible, and these will be created frequently, in varied for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79280" y="4076640"/>
            <a:ext cx="626436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C. You and I exist in the early 21</a:t>
            </a:r>
            <a:r>
              <a:rPr b="0" lang="en-GB" sz="2800" spc="-1" strike="noStrike" baseline="30000">
                <a:solidFill>
                  <a:srgbClr val="ffff00"/>
                </a:solidFill>
                <a:latin typeface="Arial"/>
              </a:rPr>
              <a:t>st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 centu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79280" y="5373720"/>
            <a:ext cx="62643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. Modal Realism is tru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659640" y="1197000"/>
            <a:ext cx="144360" cy="2592360"/>
          </a:xfrm>
          <a:custGeom>
            <a:avLst/>
            <a:gdLst>
              <a:gd name="textAreaLeft" fmla="*/ 0 w 144360"/>
              <a:gd name="textAreaRight" fmla="*/ 52200 w 14436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rot="416400">
            <a:off x="6732360" y="2420640"/>
            <a:ext cx="647640" cy="2232000"/>
          </a:xfrm>
          <a:custGeom>
            <a:avLst/>
            <a:gdLst>
              <a:gd name="textAreaLeft" fmla="*/ 86760 w 647640"/>
              <a:gd name="textAreaRight" fmla="*/ 560880 w 647640"/>
              <a:gd name="textAreaTop" fmla="*/ 468000 h 2232000"/>
              <a:gd name="textAreaBottom" fmla="*/ 151200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060" stAng="-5400000" swAng="5400000"/>
                <a:lnTo>
                  <a:pt x="21600" y="10100"/>
                </a:lnTo>
                <a:arcTo wR="21600" hR="9060" stAng="0" swAng="2578741"/>
                <a:lnTo>
                  <a:pt x="8866" y="20802"/>
                </a:lnTo>
                <a:lnTo>
                  <a:pt x="0" y="18640"/>
                </a:lnTo>
                <a:lnTo>
                  <a:pt x="8866" y="14882"/>
                </a:lnTo>
                <a:lnTo>
                  <a:pt x="8866" y="17322"/>
                </a:lnTo>
                <a:arcTo wR="21600" hR="9060" stAng="2578741" swAng="-2495859"/>
                <a:lnTo>
                  <a:pt x="21564" y="9580"/>
                </a:lnTo>
                <a:arcTo wR="21600" hR="9060" stAng="-82881" swAng="-5317119"/>
                <a:close/>
              </a:path>
              <a:path fill="darkenLess" w="21600" h="21600">
                <a:moveTo>
                  <a:pt x="0" y="0"/>
                </a:moveTo>
                <a:arcTo wR="21600" hR="9060" stAng="-5400000" swAng="5400000"/>
                <a:lnTo>
                  <a:pt x="21600" y="10100"/>
                </a:lnTo>
                <a:arcTo wR="21600" hR="9060" stAng="0" swAng="-82881"/>
                <a:lnTo>
                  <a:pt x="21564" y="9580"/>
                </a:lnTo>
                <a:arcTo wR="21600" hR="9060" stAng="-82881" swAng="-5317119"/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6588000" y="4652280"/>
            <a:ext cx="646200" cy="1152360"/>
          </a:xfrm>
          <a:custGeom>
            <a:avLst/>
            <a:gdLst>
              <a:gd name="textAreaLeft" fmla="*/ 86400 w 646200"/>
              <a:gd name="textAreaRight" fmla="*/ 559800 w 646200"/>
              <a:gd name="textAreaTop" fmla="*/ 215280 h 1152360"/>
              <a:gd name="textAreaBottom" fmla="*/ 80424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085" stAng="-5400000" swAng="5400000"/>
                <a:lnTo>
                  <a:pt x="21600" y="11040"/>
                </a:lnTo>
                <a:arcTo wR="21600" hR="8085" stAng="0" swAng="2313429"/>
                <a:lnTo>
                  <a:pt x="9181" y="20833"/>
                </a:lnTo>
                <a:lnTo>
                  <a:pt x="0" y="17647"/>
                </a:lnTo>
                <a:lnTo>
                  <a:pt x="9181" y="12926"/>
                </a:lnTo>
                <a:lnTo>
                  <a:pt x="9181" y="15402"/>
                </a:lnTo>
                <a:arcTo wR="21600" hR="8085" stAng="2313429" swAng="-2074634"/>
                <a:lnTo>
                  <a:pt x="21236" y="9562"/>
                </a:lnTo>
                <a:arcTo wR="21600" hR="8085" stAng="-238795" swAng="-5161205"/>
                <a:close/>
              </a:path>
              <a:path fill="darkenLess" w="21600" h="21600">
                <a:moveTo>
                  <a:pt x="0" y="0"/>
                </a:moveTo>
                <a:arcTo wR="21600" hR="8085" stAng="-5400000" swAng="5400000"/>
                <a:lnTo>
                  <a:pt x="21600" y="11040"/>
                </a:lnTo>
                <a:arcTo wR="21600" hR="8085" stAng="0" swAng="-238795"/>
                <a:lnTo>
                  <a:pt x="21236" y="9562"/>
                </a:lnTo>
                <a:arcTo wR="21600" hR="8085" stAng="-238795" swAng="-5161205"/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451640" y="306864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en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380360" y="5013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en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 rot="10800000">
            <a:off x="2123640" y="2349000"/>
            <a:ext cx="2521080" cy="231300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 &amp;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rue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995640" y="1413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gh prob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924360" y="537372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ow prob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708360" y="2276640"/>
            <a:ext cx="2808360" cy="2447640"/>
          </a:xfrm>
          <a:prstGeom prst="triangle">
            <a:avLst>
              <a:gd name="adj" fmla="val 5000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perienc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ccur in 2003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rot="10800000">
            <a:off x="5724000" y="2349000"/>
            <a:ext cx="2521080" cy="237492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rue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0" y="177336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re confid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0" y="465300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ess confid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84360" y="2349360"/>
            <a:ext cx="358560" cy="2230560"/>
          </a:xfrm>
          <a:prstGeom prst="upArrow">
            <a:avLst>
              <a:gd name="adj1" fmla="val 29278"/>
              <a:gd name="adj2" fmla="val 1334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2843280" y="2349360"/>
            <a:ext cx="3384360" cy="1224000"/>
          </a:xfrm>
          <a:prstGeom prst="rect">
            <a:avLst/>
          </a:prstGeom>
          <a:solidFill>
            <a:srgbClr val="cc00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Sim Arg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implication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403280" y="4724280"/>
            <a:ext cx="2521080" cy="9367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pistemolog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24000" y="1989000"/>
            <a:ext cx="1800000" cy="9367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thic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292720" y="4724280"/>
            <a:ext cx="2376360" cy="86364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taphysic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76" name=""/>
          <p:cNvCxnSpPr>
            <a:stCxn id="572" idx="0"/>
            <a:endCxn id="577" idx="2"/>
          </p:cNvCxnSpPr>
          <p:nvPr/>
        </p:nvCxnSpPr>
        <p:spPr>
          <a:xfrm flipH="1" flipV="1" rot="5400000">
            <a:off x="5651280" y="296280"/>
            <a:ext cx="937080" cy="3169080"/>
          </a:xfrm>
          <a:prstGeom prst="bentConnector3">
            <a:avLst>
              <a:gd name="adj1" fmla="val 50000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78" name=""/>
          <p:cNvCxnSpPr>
            <a:stCxn id="572" idx="2"/>
            <a:endCxn id="573" idx="0"/>
          </p:cNvCxnSpPr>
          <p:nvPr/>
        </p:nvCxnSpPr>
        <p:spPr>
          <a:xfrm rot="5400000">
            <a:off x="3023640" y="3212640"/>
            <a:ext cx="1151640" cy="1872360"/>
          </a:xfrm>
          <a:prstGeom prst="bentConnector3">
            <a:avLst>
              <a:gd name="adj1" fmla="val 49906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79" name=""/>
          <p:cNvCxnSpPr>
            <a:stCxn id="572" idx="0"/>
            <a:endCxn id="574" idx="0"/>
          </p:cNvCxnSpPr>
          <p:nvPr/>
        </p:nvCxnSpPr>
        <p:spPr>
          <a:xfrm flipV="1" rot="16200000">
            <a:off x="2698920" y="512640"/>
            <a:ext cx="361080" cy="3312360"/>
          </a:xfrm>
          <a:prstGeom prst="bentConnector3">
            <a:avLst>
              <a:gd name="adj1" fmla="val 163373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80" name=""/>
          <p:cNvCxnSpPr>
            <a:stCxn id="572" idx="2"/>
            <a:endCxn id="575" idx="0"/>
          </p:cNvCxnSpPr>
          <p:nvPr/>
        </p:nvCxnSpPr>
        <p:spPr>
          <a:xfrm flipH="1" rot="16200000">
            <a:off x="4933080" y="3175200"/>
            <a:ext cx="1151640" cy="1946880"/>
          </a:xfrm>
          <a:prstGeom prst="bentConnector3">
            <a:avLst>
              <a:gd name="adj1" fmla="val 49906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577" name=""/>
          <p:cNvSpPr/>
          <p:nvPr/>
        </p:nvSpPr>
        <p:spPr>
          <a:xfrm>
            <a:off x="6804000" y="476280"/>
            <a:ext cx="1800360" cy="9367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619280" y="333360"/>
            <a:ext cx="2232000" cy="9367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agmati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82" name=""/>
          <p:cNvCxnSpPr>
            <a:stCxn id="572" idx="0"/>
            <a:endCxn id="581" idx="3"/>
          </p:cNvCxnSpPr>
          <p:nvPr/>
        </p:nvCxnSpPr>
        <p:spPr>
          <a:xfrm flipV="1" rot="16200000">
            <a:off x="3418920" y="1232640"/>
            <a:ext cx="1548360" cy="68508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Scepticism: traditional respon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148360" y="1557360"/>
            <a:ext cx="2374920" cy="792000"/>
          </a:xfrm>
          <a:prstGeom prst="rect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BAT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900000" y="1341360"/>
            <a:ext cx="2160720" cy="1368360"/>
          </a:xfrm>
          <a:prstGeom prst="rect">
            <a:avLst/>
          </a:prstGeom>
          <a:solidFill>
            <a:srgbClr val="ccff33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f cou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life 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l!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348000" y="1773360"/>
            <a:ext cx="1655640" cy="360360"/>
          </a:xfrm>
          <a:prstGeom prst="leftRightArrow">
            <a:avLst>
              <a:gd name="adj1" fmla="val 50000"/>
              <a:gd name="adj2" fmla="val 91463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995640" y="2276640"/>
            <a:ext cx="505080" cy="1728720"/>
          </a:xfrm>
          <a:prstGeom prst="downArrow">
            <a:avLst>
              <a:gd name="adj1" fmla="val 50000"/>
              <a:gd name="adj2" fmla="val 855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987640" y="4437000"/>
            <a:ext cx="2449440" cy="1440000"/>
          </a:xfrm>
          <a:prstGeom prst="rect">
            <a:avLst/>
          </a:prstGeom>
          <a:solidFill>
            <a:srgbClr val="969696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tablish th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ern 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warra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Sim Era Scepticism: menace of the virtual = very real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250920" y="1557360"/>
            <a:ext cx="4681440" cy="1295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sume: reality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largely 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r experience sugg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physical law, history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68360" y="3860640"/>
            <a:ext cx="3457440" cy="1079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gnificant probabil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at your life = virt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050920" y="3068640"/>
            <a:ext cx="433440" cy="574560"/>
          </a:xfrm>
          <a:prstGeom prst="downArrow">
            <a:avLst>
              <a:gd name="adj1" fmla="val 50000"/>
              <a:gd name="adj2" fmla="val 3314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211640" y="3357720"/>
            <a:ext cx="289080" cy="2304720"/>
          </a:xfrm>
          <a:custGeom>
            <a:avLst/>
            <a:gdLst>
              <a:gd name="textAreaLeft" fmla="*/ 0 w 289080"/>
              <a:gd name="textAreaRight" fmla="*/ 104400 w 289080"/>
              <a:gd name="textAreaTop" fmla="*/ 59760 h 2304720"/>
              <a:gd name="textAreaBottom" fmla="*/ 2244960 h 23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859280" y="3716280"/>
            <a:ext cx="3888000" cy="15562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ake a few VR-trips: threat will 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feel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real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Simulation Argument (one form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imulation Dominance is 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o reason to think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uman lives are less likely to be simulated than other ty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arly C21-type human lives are less likely to be simulated than other ty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: it is probable that our lives are simula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Arial"/>
              </a:rPr>
              <a:t>Objection:</a:t>
            </a: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11280" y="1844640"/>
            <a:ext cx="3456000" cy="1440000"/>
          </a:xfrm>
          <a:prstGeom prst="rect">
            <a:avLst/>
          </a:prstGeom>
          <a:solidFill>
            <a:srgbClr val="969696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-sceptic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 self-undermi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84720" y="3645000"/>
            <a:ext cx="3672000" cy="1800000"/>
          </a:xfrm>
          <a:prstGeom prst="rect">
            <a:avLst/>
          </a:prstGeom>
          <a:solidFill>
            <a:srgbClr val="969696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 threa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 not r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98" name=""/>
          <p:cNvCxnSpPr>
            <a:stCxn id="596" idx="3"/>
            <a:endCxn id="597" idx="0"/>
          </p:cNvCxnSpPr>
          <p:nvPr/>
        </p:nvCxnSpPr>
        <p:spPr>
          <a:xfrm>
            <a:off x="4067280" y="2565000"/>
            <a:ext cx="2054880" cy="108036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4067280" y="549360"/>
            <a:ext cx="3456000" cy="1439640"/>
          </a:xfrm>
          <a:prstGeom prst="rect">
            <a:avLst/>
          </a:prstGeom>
          <a:solidFill>
            <a:srgbClr val="969696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all the basi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ne of reaso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835280" y="4221000"/>
            <a:ext cx="3671640" cy="1800360"/>
          </a:xfrm>
          <a:prstGeom prst="rect">
            <a:avLst/>
          </a:prstGeom>
          <a:solidFill>
            <a:srgbClr val="969696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see how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feats itself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01" name=""/>
          <p:cNvCxnSpPr>
            <a:stCxn id="599" idx="2"/>
            <a:endCxn id="600" idx="0"/>
          </p:cNvCxnSpPr>
          <p:nvPr/>
        </p:nvCxnSpPr>
        <p:spPr>
          <a:xfrm rot="5400000">
            <a:off x="3617280" y="2043000"/>
            <a:ext cx="2232720" cy="2124720"/>
          </a:xfrm>
          <a:prstGeom prst="bentConnector3">
            <a:avLst>
              <a:gd name="adj1" fmla="val 49991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3276720" y="260280"/>
            <a:ext cx="2232000" cy="15130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y life 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n-virtu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476360" y="2349360"/>
            <a:ext cx="2232000" cy="107964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gu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276720" y="4365720"/>
            <a:ext cx="2232000" cy="21589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igh od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at I a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ving in 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ul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932360" y="2349360"/>
            <a:ext cx="2952720" cy="107964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y world h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perties F, G .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06" name=""/>
          <p:cNvCxnSpPr>
            <a:stCxn id="602" idx="2"/>
            <a:endCxn id="603" idx="0"/>
          </p:cNvCxnSpPr>
          <p:nvPr/>
        </p:nvCxnSpPr>
        <p:spPr>
          <a:xfrm rot="5400000">
            <a:off x="3204000" y="1161000"/>
            <a:ext cx="576360" cy="1801080"/>
          </a:xfrm>
          <a:prstGeom prst="bentConnector3">
            <a:avLst>
              <a:gd name="adj1" fmla="val 49875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07" name=""/>
          <p:cNvCxnSpPr>
            <a:stCxn id="602" idx="2"/>
            <a:endCxn id="605" idx="0"/>
          </p:cNvCxnSpPr>
          <p:nvPr/>
        </p:nvCxnSpPr>
        <p:spPr>
          <a:xfrm flipH="1" rot="16200000">
            <a:off x="5112720" y="1053000"/>
            <a:ext cx="576360" cy="2016720"/>
          </a:xfrm>
          <a:prstGeom prst="bentConnector3">
            <a:avLst>
              <a:gd name="adj1" fmla="val 49875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08" name=""/>
          <p:cNvCxnSpPr>
            <a:stCxn id="603" idx="2"/>
            <a:endCxn id="604" idx="0"/>
          </p:cNvCxnSpPr>
          <p:nvPr/>
        </p:nvCxnSpPr>
        <p:spPr>
          <a:xfrm flipH="1" rot="16200000">
            <a:off x="3023280" y="2997000"/>
            <a:ext cx="937440" cy="1801080"/>
          </a:xfrm>
          <a:prstGeom prst="bentConnector3">
            <a:avLst>
              <a:gd name="adj1" fmla="val 49980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09" name=""/>
          <p:cNvCxnSpPr>
            <a:stCxn id="605" idx="2"/>
            <a:endCxn id="604" idx="0"/>
          </p:cNvCxnSpPr>
          <p:nvPr/>
        </p:nvCxnSpPr>
        <p:spPr>
          <a:xfrm rot="5400000">
            <a:off x="4931640" y="2889360"/>
            <a:ext cx="937440" cy="2016720"/>
          </a:xfrm>
          <a:prstGeom prst="bentConnector3">
            <a:avLst>
              <a:gd name="adj1" fmla="val 49980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3276720" y="260280"/>
            <a:ext cx="2232000" cy="15130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y life 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n-virtu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476360" y="2349360"/>
            <a:ext cx="2232000" cy="107964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gu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276720" y="4365720"/>
            <a:ext cx="2232000" cy="21589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igh od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at I a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ving in 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ul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932360" y="2349360"/>
            <a:ext cx="2952720" cy="107964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y world h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perties F, 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14" name=""/>
          <p:cNvCxnSpPr>
            <a:stCxn id="610" idx="2"/>
            <a:endCxn id="611" idx="0"/>
          </p:cNvCxnSpPr>
          <p:nvPr/>
        </p:nvCxnSpPr>
        <p:spPr>
          <a:xfrm rot="5400000">
            <a:off x="3204000" y="1161000"/>
            <a:ext cx="576360" cy="1801080"/>
          </a:xfrm>
          <a:prstGeom prst="bentConnector3">
            <a:avLst>
              <a:gd name="adj1" fmla="val 49875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15" name=""/>
          <p:cNvCxnSpPr>
            <a:stCxn id="610" idx="2"/>
            <a:endCxn id="613" idx="0"/>
          </p:cNvCxnSpPr>
          <p:nvPr/>
        </p:nvCxnSpPr>
        <p:spPr>
          <a:xfrm flipH="1" rot="16200000">
            <a:off x="5112720" y="1053000"/>
            <a:ext cx="576360" cy="2016720"/>
          </a:xfrm>
          <a:prstGeom prst="bentConnector3">
            <a:avLst>
              <a:gd name="adj1" fmla="val 49875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16" name=""/>
          <p:cNvCxnSpPr>
            <a:stCxn id="611" idx="2"/>
            <a:endCxn id="612" idx="0"/>
          </p:cNvCxnSpPr>
          <p:nvPr/>
        </p:nvCxnSpPr>
        <p:spPr>
          <a:xfrm flipH="1" rot="16200000">
            <a:off x="3023280" y="2997000"/>
            <a:ext cx="937440" cy="1801080"/>
          </a:xfrm>
          <a:prstGeom prst="bentConnector3">
            <a:avLst>
              <a:gd name="adj1" fmla="val 49980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17" name=""/>
          <p:cNvCxnSpPr>
            <a:stCxn id="613" idx="2"/>
            <a:endCxn id="612" idx="0"/>
          </p:cNvCxnSpPr>
          <p:nvPr/>
        </p:nvCxnSpPr>
        <p:spPr>
          <a:xfrm rot="5400000">
            <a:off x="4931640" y="2889360"/>
            <a:ext cx="937440" cy="2016720"/>
          </a:xfrm>
          <a:prstGeom prst="bentConnector3">
            <a:avLst>
              <a:gd name="adj1" fmla="val 49980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18" name=""/>
          <p:cNvSpPr/>
          <p:nvPr/>
        </p:nvSpPr>
        <p:spPr>
          <a:xfrm flipV="1" rot="16200000">
            <a:off x="5471280" y="3679560"/>
            <a:ext cx="2305080" cy="1944720"/>
          </a:xfrm>
          <a:custGeom>
            <a:avLst/>
            <a:gdLst>
              <a:gd name="textAreaLeft" fmla="*/ 0 w 2305080"/>
              <a:gd name="textAreaRight" fmla="*/ 2305080 w 2305080"/>
              <a:gd name="textAreaTop" fmla="*/ 360 h 1944720"/>
              <a:gd name="textAreaBottom" fmla="*/ 194544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732720" y="4508640"/>
            <a:ext cx="129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/>
          </p:nvPr>
        </p:nvSpPr>
        <p:spPr>
          <a:xfrm>
            <a:off x="0" y="1628640"/>
            <a:ext cx="8820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ertain beliefs about the character of the world lead you to believe that it is likely that you are living in a simul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ut: the latter belief undermines the former belief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f you believe you inhabit a sim, why believe your experience is a reliable guide to how things really ar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Your grounds for assigning a high probability to the sim hypothesis are no m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68360" y="0"/>
            <a:ext cx="828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Steps to a vicious, epistemically unstable, loop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/>
          </p:nvPr>
        </p:nvSpPr>
        <p:spPr>
          <a:xfrm>
            <a:off x="468000" y="1413000"/>
            <a:ext cx="828036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 you no longer have reason to believe you are living in a simul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You conclude: things are much as they se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ut: if things are much as they seem, there is a good chance that you are living in a simulation 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d the loop repeats 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468360" y="333360"/>
            <a:ext cx="82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Loop concluded and relaunched 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1835280" y="0"/>
            <a:ext cx="5472000" cy="1295280"/>
          </a:xfrm>
          <a:prstGeom prst="rect">
            <a:avLst/>
          </a:prstGeom>
          <a:solidFill>
            <a:srgbClr val="c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e response: entrench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835280" y="2060640"/>
            <a:ext cx="5472000" cy="194472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yone who initially assig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igh probability to s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ypothesis is always retur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their initial st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835280" y="4653000"/>
            <a:ext cx="5472000" cy="151272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: rejecting the Sim Arg 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turning to reality’ 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 not a stable o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427640" y="4076640"/>
            <a:ext cx="57456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/>
          <p:nvPr/>
        </p:nvSpPr>
        <p:spPr>
          <a:xfrm>
            <a:off x="2268360" y="333360"/>
            <a:ext cx="4249800" cy="1295280"/>
          </a:xfrm>
          <a:prstGeom prst="rect">
            <a:avLst/>
          </a:prstGeom>
          <a:solidFill>
            <a:srgbClr val="c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problemat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&amp; puzzling) symmet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24000" y="2421000"/>
            <a:ext cx="3598560" cy="115236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jecting Sim A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 not a stable op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859280" y="2421000"/>
            <a:ext cx="3816360" cy="115416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epting Sim Ar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 not a stable o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31" name=""/>
          <p:cNvCxnSpPr>
            <a:stCxn id="628" idx="2"/>
            <a:endCxn id="629" idx="0"/>
          </p:cNvCxnSpPr>
          <p:nvPr/>
        </p:nvCxnSpPr>
        <p:spPr>
          <a:xfrm rot="5400000">
            <a:off x="2862720" y="889560"/>
            <a:ext cx="793080" cy="2270520"/>
          </a:xfrm>
          <a:prstGeom prst="bentConnector3">
            <a:avLst>
              <a:gd name="adj1" fmla="val 4986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32" name=""/>
          <p:cNvCxnSpPr>
            <a:stCxn id="628" idx="2"/>
            <a:endCxn id="630" idx="0"/>
          </p:cNvCxnSpPr>
          <p:nvPr/>
        </p:nvCxnSpPr>
        <p:spPr>
          <a:xfrm flipH="1" rot="16200000">
            <a:off x="5183640" y="837720"/>
            <a:ext cx="793080" cy="2374200"/>
          </a:xfrm>
          <a:prstGeom prst="bentConnector3">
            <a:avLst>
              <a:gd name="adj1" fmla="val 4986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0" y="2133720"/>
            <a:ext cx="3598920" cy="115236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jecting Sim A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 not a stable op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327640" y="2133720"/>
            <a:ext cx="3816360" cy="115416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epting Sim Ar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 not a stable o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35" name=""/>
          <p:cNvCxnSpPr>
            <a:stCxn id="636" idx="2"/>
            <a:endCxn id="633" idx="0"/>
          </p:cNvCxnSpPr>
          <p:nvPr/>
        </p:nvCxnSpPr>
        <p:spPr>
          <a:xfrm rot="5400000">
            <a:off x="2680920" y="387360"/>
            <a:ext cx="866160" cy="2627640"/>
          </a:xfrm>
          <a:prstGeom prst="bentConnector3">
            <a:avLst>
              <a:gd name="adj1" fmla="val 49896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37" name=""/>
          <p:cNvCxnSpPr>
            <a:stCxn id="636" idx="2"/>
            <a:endCxn id="634" idx="0"/>
          </p:cNvCxnSpPr>
          <p:nvPr/>
        </p:nvCxnSpPr>
        <p:spPr>
          <a:xfrm flipH="1" rot="16200000">
            <a:off x="5398200" y="296640"/>
            <a:ext cx="866160" cy="2809080"/>
          </a:xfrm>
          <a:prstGeom prst="bentConnector3">
            <a:avLst>
              <a:gd name="adj1" fmla="val 49896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38" name=""/>
          <p:cNvSpPr/>
          <p:nvPr/>
        </p:nvSpPr>
        <p:spPr>
          <a:xfrm>
            <a:off x="2124000" y="4005360"/>
            <a:ext cx="4249800" cy="1989000"/>
          </a:xfrm>
          <a:prstGeom prst="rect">
            <a:avLst/>
          </a:prstGeom>
          <a:solidFill>
            <a:srgbClr val="c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Ca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he Sim Ar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ave one in a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pistemically sta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tuation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2556000" y="260280"/>
            <a:ext cx="3743280" cy="1008000"/>
          </a:xfrm>
          <a:prstGeom prst="rect">
            <a:avLst/>
          </a:prstGeom>
          <a:solidFill>
            <a:srgbClr val="c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Question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877080" y="5589720"/>
            <a:ext cx="1979640" cy="934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yb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40" name=""/>
          <p:cNvCxnSpPr>
            <a:stCxn id="638" idx="3"/>
            <a:endCxn id="639" idx="0"/>
          </p:cNvCxnSpPr>
          <p:nvPr/>
        </p:nvCxnSpPr>
        <p:spPr>
          <a:xfrm>
            <a:off x="6373800" y="5000760"/>
            <a:ext cx="1494720" cy="589680"/>
          </a:xfrm>
          <a:prstGeom prst="curved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41" name=""/>
          <p:cNvCxnSpPr>
            <a:stCxn id="636" idx="2"/>
            <a:endCxn id="638" idx="0"/>
          </p:cNvCxnSpPr>
          <p:nvPr/>
        </p:nvCxnSpPr>
        <p:spPr>
          <a:xfrm rot="5400000">
            <a:off x="2970000" y="2547720"/>
            <a:ext cx="2737800" cy="17820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1187280" y="1484280"/>
            <a:ext cx="7343640" cy="1150920"/>
            <a:chOff x="1187280" y="1484280"/>
            <a:chExt cx="7343640" cy="1150920"/>
          </a:xfrm>
        </p:grpSpPr>
        <p:sp>
          <p:nvSpPr>
            <p:cNvPr id="644" name=""/>
            <p:cNvSpPr/>
            <p:nvPr/>
          </p:nvSpPr>
          <p:spPr>
            <a:xfrm>
              <a:off x="1187280" y="1555560"/>
              <a:ext cx="2232000" cy="107964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imulation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219640" y="1484280"/>
              <a:ext cx="3311280" cy="10792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Misrepresentatio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635280" y="1771560"/>
              <a:ext cx="1295280" cy="64764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7" name=""/>
          <p:cNvSpPr/>
          <p:nvPr/>
        </p:nvSpPr>
        <p:spPr>
          <a:xfrm>
            <a:off x="611280" y="333360"/>
            <a:ext cx="80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A suspect equation…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50920" y="3789360"/>
            <a:ext cx="3457440" cy="1511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radit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m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ypothe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788000" y="3789360"/>
            <a:ext cx="4032000" cy="1511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aturalis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im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ypothe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1403280" y="5589720"/>
            <a:ext cx="1081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Y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6227640" y="5516640"/>
            <a:ext cx="1081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N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39640" y="1341360"/>
            <a:ext cx="8136000" cy="144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53" name=""/>
          <p:cNvCxnSpPr>
            <a:stCxn id="652" idx="2"/>
            <a:endCxn id="648" idx="0"/>
          </p:cNvCxnSpPr>
          <p:nvPr/>
        </p:nvCxnSpPr>
        <p:spPr>
          <a:xfrm rot="5400000">
            <a:off x="2799000" y="1980000"/>
            <a:ext cx="989280" cy="2629440"/>
          </a:xfrm>
          <a:prstGeom prst="bentConnector3">
            <a:avLst>
              <a:gd name="adj1" fmla="val 48962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54" name=""/>
          <p:cNvCxnSpPr>
            <a:stCxn id="652" idx="2"/>
            <a:endCxn id="649" idx="0"/>
          </p:cNvCxnSpPr>
          <p:nvPr/>
        </p:nvCxnSpPr>
        <p:spPr>
          <a:xfrm flipH="1" rot="16200000">
            <a:off x="5210640" y="2196360"/>
            <a:ext cx="989280" cy="2196000"/>
          </a:xfrm>
          <a:prstGeom prst="bentConnector3">
            <a:avLst>
              <a:gd name="adj1" fmla="val 48962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71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The Simulation Argument (Bostrom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 u="sng">
                <a:solidFill>
                  <a:srgbClr val="ffffff"/>
                </a:solidFill>
                <a:uFillTx/>
                <a:latin typeface="Arial"/>
              </a:rPr>
              <a:t>Simulation Hypothesis:</a:t>
            </a:r>
            <a:r>
              <a:rPr b="0" lang="en-GB" sz="3400" spc="-1" strike="noStrike">
                <a:solidFill>
                  <a:srgbClr val="ffffff"/>
                </a:solidFill>
                <a:latin typeface="Arial"/>
              </a:rPr>
              <a:t> for every non-virtual early 21</a:t>
            </a:r>
            <a:r>
              <a:rPr b="0" lang="en-GB" sz="3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3400" spc="-1" strike="noStrike">
                <a:solidFill>
                  <a:srgbClr val="ffffff"/>
                </a:solidFill>
                <a:latin typeface="Arial"/>
              </a:rPr>
              <a:t> century human life there are many subjectively indistinguishable (or broadly similar) virtual liv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24000" y="580536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500720" y="587700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IRT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84360" y="4149720"/>
            <a:ext cx="360360" cy="4334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771640" y="4149720"/>
            <a:ext cx="360360" cy="4334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346560" y="4149720"/>
            <a:ext cx="360360" cy="4334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22560" y="4149720"/>
            <a:ext cx="360360" cy="4334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498920" y="4149720"/>
            <a:ext cx="360360" cy="4334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75280" y="4149720"/>
            <a:ext cx="360360" cy="4334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651640" y="4149720"/>
            <a:ext cx="360360" cy="4334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227640" y="4149720"/>
            <a:ext cx="360360" cy="4334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804000" y="4149720"/>
            <a:ext cx="360360" cy="4334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380360" y="4149720"/>
            <a:ext cx="360360" cy="4334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956720" y="4149720"/>
            <a:ext cx="360360" cy="4334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611280" y="4797360"/>
            <a:ext cx="7850160" cy="576360"/>
            <a:chOff x="611280" y="4797360"/>
            <a:chExt cx="7850160" cy="576360"/>
          </a:xfrm>
        </p:grpSpPr>
        <p:sp>
          <p:nvSpPr>
            <p:cNvPr id="240" name=""/>
            <p:cNvSpPr/>
            <p:nvPr/>
          </p:nvSpPr>
          <p:spPr>
            <a:xfrm>
              <a:off x="611280" y="4797360"/>
              <a:ext cx="504720" cy="576360"/>
            </a:xfrm>
            <a:prstGeom prst="triangle">
              <a:avLst>
                <a:gd name="adj" fmla="val 50000"/>
              </a:avLst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2698920" y="4797360"/>
              <a:ext cx="5762520" cy="576360"/>
              <a:chOff x="2698920" y="4797360"/>
              <a:chExt cx="5762520" cy="576360"/>
            </a:xfrm>
          </p:grpSpPr>
          <p:sp>
            <p:nvSpPr>
              <p:cNvPr id="242" name=""/>
              <p:cNvSpPr/>
              <p:nvPr/>
            </p:nvSpPr>
            <p:spPr>
              <a:xfrm>
                <a:off x="2698920" y="4797360"/>
                <a:ext cx="504720" cy="576360"/>
              </a:xfrm>
              <a:prstGeom prst="triangle">
                <a:avLst>
                  <a:gd name="adj" fmla="val 50000"/>
                </a:avLst>
              </a:prstGeom>
              <a:solidFill>
                <a:srgbClr val="0099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867120" y="4797360"/>
                <a:ext cx="504720" cy="576360"/>
              </a:xfrm>
              <a:prstGeom prst="triangle">
                <a:avLst>
                  <a:gd name="adj" fmla="val 50000"/>
                </a:avLst>
              </a:prstGeom>
              <a:solidFill>
                <a:srgbClr val="0099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451400" y="4797360"/>
                <a:ext cx="504720" cy="576360"/>
              </a:xfrm>
              <a:prstGeom prst="triangle">
                <a:avLst>
                  <a:gd name="adj" fmla="val 50000"/>
                </a:avLst>
              </a:prstGeom>
              <a:solidFill>
                <a:srgbClr val="0099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282840" y="4797360"/>
                <a:ext cx="505080" cy="576360"/>
              </a:xfrm>
              <a:prstGeom prst="triangle">
                <a:avLst>
                  <a:gd name="adj" fmla="val 50000"/>
                </a:avLst>
              </a:prstGeom>
              <a:solidFill>
                <a:srgbClr val="0099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035680" y="4797360"/>
                <a:ext cx="504720" cy="576360"/>
              </a:xfrm>
              <a:prstGeom prst="triangle">
                <a:avLst>
                  <a:gd name="adj" fmla="val 50000"/>
                </a:avLst>
              </a:prstGeom>
              <a:solidFill>
                <a:srgbClr val="0099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619600" y="4797360"/>
                <a:ext cx="505080" cy="576360"/>
              </a:xfrm>
              <a:prstGeom prst="triangle">
                <a:avLst>
                  <a:gd name="adj" fmla="val 50000"/>
                </a:avLst>
              </a:prstGeom>
              <a:solidFill>
                <a:srgbClr val="0099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788160" y="4797360"/>
                <a:ext cx="504720" cy="576360"/>
              </a:xfrm>
              <a:prstGeom prst="triangle">
                <a:avLst>
                  <a:gd name="adj" fmla="val 50000"/>
                </a:avLst>
              </a:prstGeom>
              <a:solidFill>
                <a:srgbClr val="0099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372440" y="4797360"/>
                <a:ext cx="504720" cy="576360"/>
              </a:xfrm>
              <a:prstGeom prst="triangle">
                <a:avLst>
                  <a:gd name="adj" fmla="val 50000"/>
                </a:avLst>
              </a:prstGeom>
              <a:solidFill>
                <a:srgbClr val="0099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203880" y="4797360"/>
                <a:ext cx="504720" cy="576360"/>
              </a:xfrm>
              <a:prstGeom prst="triangle">
                <a:avLst>
                  <a:gd name="adj" fmla="val 50000"/>
                </a:avLst>
              </a:prstGeom>
              <a:solidFill>
                <a:srgbClr val="0099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956720" y="4797360"/>
                <a:ext cx="504720" cy="576360"/>
              </a:xfrm>
              <a:prstGeom prst="triangle">
                <a:avLst>
                  <a:gd name="adj" fmla="val 50000"/>
                </a:avLst>
              </a:prstGeom>
              <a:solidFill>
                <a:srgbClr val="0099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52" name=""/>
          <p:cNvGrpSpPr/>
          <p:nvPr/>
        </p:nvGrpSpPr>
        <p:grpSpPr>
          <a:xfrm>
            <a:off x="684360" y="3429000"/>
            <a:ext cx="7560720" cy="431640"/>
            <a:chOff x="684360" y="3429000"/>
            <a:chExt cx="7560720" cy="431640"/>
          </a:xfrm>
        </p:grpSpPr>
        <p:sp>
          <p:nvSpPr>
            <p:cNvPr id="253" name=""/>
            <p:cNvSpPr/>
            <p:nvPr/>
          </p:nvSpPr>
          <p:spPr>
            <a:xfrm>
              <a:off x="684360" y="3429000"/>
              <a:ext cx="360000" cy="4316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773080" y="3429000"/>
              <a:ext cx="360000" cy="4316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03520" y="3429000"/>
              <a:ext cx="360000" cy="4316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964040" y="3429000"/>
              <a:ext cx="360000" cy="4316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233600" y="3429000"/>
              <a:ext cx="360000" cy="4316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694120" y="3429000"/>
              <a:ext cx="360000" cy="4316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424560" y="3429000"/>
              <a:ext cx="360000" cy="4316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885080" y="3429000"/>
              <a:ext cx="360000" cy="4316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154640" y="3429000"/>
              <a:ext cx="360000" cy="4316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Simulation Realism: varia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ull: simulation is perfect duplication of actual wor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rtial: simulation is accurate in some resp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i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ona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S-realism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imulations with high S-realism resemble the actual world in ways relevant to the assessment of the Simulation Hypothesis (i.e. that there are high odds that your life is virtu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aws of nature, technological possibilities, social trend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Modest claim: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at least 75% of current fictions (films, novels, computer games) have high S-real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Modest prediction: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at least 50% of future fictions will have high S-real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/>
          <p:nvPr/>
        </p:nvSpPr>
        <p:spPr>
          <a:xfrm>
            <a:off x="6012000" y="260280"/>
            <a:ext cx="2901960" cy="144936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80% ch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am living in 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ul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250920" y="260280"/>
            <a:ext cx="3808440" cy="14400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y world is broadly 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seems + low od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at my life is virt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61" name=""/>
          <p:cNvCxnSpPr>
            <a:stCxn id="660" idx="3"/>
            <a:endCxn id="659" idx="1"/>
          </p:cNvCxnSpPr>
          <p:nvPr/>
        </p:nvCxnSpPr>
        <p:spPr>
          <a:xfrm>
            <a:off x="4059360" y="980640"/>
            <a:ext cx="1953000" cy="5400"/>
          </a:xfrm>
          <a:prstGeom prst="bentConnector3">
            <a:avLst>
              <a:gd name="adj1" fmla="val 50000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62" name=""/>
          <p:cNvSpPr/>
          <p:nvPr/>
        </p:nvSpPr>
        <p:spPr>
          <a:xfrm>
            <a:off x="5292720" y="2637000"/>
            <a:ext cx="3564000" cy="115236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ulations wit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igh S-realism= 5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635280" y="4581360"/>
            <a:ext cx="2757600" cy="13068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0% ch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am living in 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ul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64" name=""/>
          <p:cNvCxnSpPr>
            <a:stCxn id="662" idx="2"/>
            <a:endCxn id="663" idx="3"/>
          </p:cNvCxnSpPr>
          <p:nvPr/>
        </p:nvCxnSpPr>
        <p:spPr>
          <a:xfrm rot="5400000">
            <a:off x="6010920" y="4170960"/>
            <a:ext cx="1446840" cy="682920"/>
          </a:xfrm>
          <a:prstGeom prst="bent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65" name=""/>
          <p:cNvCxnSpPr>
            <a:stCxn id="659" idx="2"/>
            <a:endCxn id="662" idx="0"/>
          </p:cNvCxnSpPr>
          <p:nvPr/>
        </p:nvCxnSpPr>
        <p:spPr>
          <a:xfrm rot="5400000">
            <a:off x="6804720" y="1979640"/>
            <a:ext cx="928080" cy="388080"/>
          </a:xfrm>
          <a:prstGeom prst="bentConnector3">
            <a:avLst>
              <a:gd name="adj1" fmla="val 49980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66" name=""/>
          <p:cNvSpPr/>
          <p:nvPr/>
        </p:nvSpPr>
        <p:spPr>
          <a:xfrm>
            <a:off x="1116000" y="6278400"/>
            <a:ext cx="75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teps to an epistemically stable sit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0" y="2492280"/>
            <a:ext cx="4248000" cy="15112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y world is broadly as 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ems + good ch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at my life is a sim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572000" y="333360"/>
            <a:ext cx="1008000" cy="12970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i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69" name=""/>
          <p:cNvCxnSpPr>
            <a:stCxn id="663" idx="1"/>
            <a:endCxn id="667" idx="2"/>
          </p:cNvCxnSpPr>
          <p:nvPr/>
        </p:nvCxnSpPr>
        <p:spPr>
          <a:xfrm rot="10800000">
            <a:off x="2123280" y="4003560"/>
            <a:ext cx="1512000" cy="1232280"/>
          </a:xfrm>
          <a:prstGeom prst="bent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70" name=""/>
          <p:cNvCxnSpPr>
            <a:stCxn id="667" idx="3"/>
            <a:endCxn id="662" idx="1"/>
          </p:cNvCxnSpPr>
          <p:nvPr/>
        </p:nvCxnSpPr>
        <p:spPr>
          <a:xfrm flipV="1">
            <a:off x="4248000" y="3212280"/>
            <a:ext cx="1045440" cy="35640"/>
          </a:xfrm>
          <a:prstGeom prst="bentConnector3">
            <a:avLst>
              <a:gd name="adj1" fmla="val 49982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a) the world is broadly as I believe it to be (physical laws, history, technological tren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b) the probability that I am living in a simulation is quite hi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aim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se two beliefs are consistent, provided that under (a) you believe that most future simulations are likely to supply a broadly accurate picture of re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11280" y="170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Moving swiftly on 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755640" y="260280"/>
            <a:ext cx="62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ology: Problem of Evi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971640" y="3716280"/>
            <a:ext cx="7032240" cy="431640"/>
            <a:chOff x="971640" y="3716280"/>
            <a:chExt cx="7032240" cy="431640"/>
          </a:xfrm>
        </p:grpSpPr>
        <p:sp>
          <p:nvSpPr>
            <p:cNvPr id="675" name=""/>
            <p:cNvSpPr/>
            <p:nvPr/>
          </p:nvSpPr>
          <p:spPr>
            <a:xfrm>
              <a:off x="2454120" y="3716280"/>
              <a:ext cx="353880" cy="4316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197160" y="3716280"/>
              <a:ext cx="353520" cy="4316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681440" y="3716280"/>
              <a:ext cx="353520" cy="4316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938400" y="3716280"/>
              <a:ext cx="353880" cy="4316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422680" y="3716280"/>
              <a:ext cx="353880" cy="4316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165720" y="3716280"/>
              <a:ext cx="353520" cy="4316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650000" y="3716280"/>
              <a:ext cx="353880" cy="4316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906960" y="3716280"/>
              <a:ext cx="353880" cy="4316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712880" y="3716280"/>
              <a:ext cx="353520" cy="4316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971640" y="3716280"/>
              <a:ext cx="353880" cy="4316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971640" y="1052640"/>
            <a:ext cx="6985080" cy="2471760"/>
          </a:xfrm>
          <a:custGeom>
            <a:avLst/>
            <a:gdLst/>
            <a:ahLst/>
            <a:rect l="l" t="t" r="r" b="b"/>
            <a:pathLst>
              <a:path w="4400" h="1557">
                <a:moveTo>
                  <a:pt x="0" y="1542"/>
                </a:moveTo>
                <a:cubicBezTo>
                  <a:pt x="340" y="1549"/>
                  <a:pt x="681" y="1557"/>
                  <a:pt x="953" y="1542"/>
                </a:cubicBezTo>
                <a:cubicBezTo>
                  <a:pt x="1225" y="1527"/>
                  <a:pt x="1338" y="1527"/>
                  <a:pt x="1633" y="1452"/>
                </a:cubicBezTo>
                <a:cubicBezTo>
                  <a:pt x="1928" y="1377"/>
                  <a:pt x="2367" y="1255"/>
                  <a:pt x="2722" y="1089"/>
                </a:cubicBezTo>
                <a:cubicBezTo>
                  <a:pt x="3077" y="923"/>
                  <a:pt x="3485" y="635"/>
                  <a:pt x="3765" y="454"/>
                </a:cubicBezTo>
                <a:cubicBezTo>
                  <a:pt x="4045" y="273"/>
                  <a:pt x="4222" y="136"/>
                  <a:pt x="4400" y="0"/>
                </a:cubicBezTo>
              </a:path>
            </a:pathLst>
          </a:custGeom>
          <a:noFill/>
          <a:ln w="7632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826920" y="4292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1476360" y="1700280"/>
            <a:ext cx="410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stribution of ‘pointless’ suff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rot="5400000">
            <a:off x="4481640" y="1357920"/>
            <a:ext cx="827280" cy="6553080"/>
          </a:xfrm>
          <a:custGeom>
            <a:avLst/>
            <a:gdLst>
              <a:gd name="textAreaLeft" fmla="*/ 0 w 827280"/>
              <a:gd name="textAreaRight" fmla="*/ 298800 w 827280"/>
              <a:gd name="textAreaTop" fmla="*/ 170640 h 6553080"/>
              <a:gd name="textAreaBottom" fmla="*/ 6382440 h 655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492360" y="515772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irtual worlds / l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1763640" y="6021360"/>
            <a:ext cx="70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st evil = directly due to humanki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Metaphysics: varieties of V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2843280" y="981000"/>
            <a:ext cx="3166920" cy="5763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-sims v S-sim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468360" y="4869000"/>
            <a:ext cx="3527280" cy="863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riginal v Replac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sych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611280" y="2205000"/>
            <a:ext cx="3240000" cy="5763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ctive v Pass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468360" y="3500280"/>
            <a:ext cx="3672000" cy="5763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munal v. Individ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5003640" y="1989000"/>
            <a:ext cx="41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utonomous v. Programmed 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5219640" y="3284640"/>
            <a:ext cx="34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thers are real (active) or merely appar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292720" y="4869000"/>
            <a:ext cx="345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ur own psychology, or another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/>
          <p:nvPr/>
        </p:nvSpPr>
        <p:spPr>
          <a:xfrm>
            <a:off x="468360" y="549360"/>
            <a:ext cx="5689440" cy="825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tive – Individual – Original Ps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tive – Individual – Replacement Ps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68360" y="1484280"/>
            <a:ext cx="5689440" cy="825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tive – Communal – Original Ps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tive – Communal – Replacement Ps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395280" y="3573360"/>
            <a:ext cx="5832360" cy="825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ssive – Communal – Original Ps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ssive – Communal – Replacement Ps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468360" y="2637000"/>
            <a:ext cx="5689440" cy="825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ssive – Individual – Original Ps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ssive – Individual – Replacement Ps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6372360" y="404640"/>
            <a:ext cx="360360" cy="4248360"/>
          </a:xfrm>
          <a:custGeom>
            <a:avLst/>
            <a:gdLst>
              <a:gd name="textAreaLeft" fmla="*/ 0 w 360360"/>
              <a:gd name="textAreaRight" fmla="*/ 129960 w 360360"/>
              <a:gd name="textAreaTop" fmla="*/ 110520 h 4248360"/>
              <a:gd name="textAreaBottom" fmla="*/ 4137840 h 424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774"/>
                </a:lnTo>
                <a:cubicBezTo>
                  <a:pt x="10800" y="9674"/>
                  <a:pt x="16200" y="10574"/>
                  <a:pt x="21600" y="10574"/>
                </a:cubicBezTo>
                <a:cubicBezTo>
                  <a:pt x="16200" y="10574"/>
                  <a:pt x="10800" y="11474"/>
                  <a:pt x="10800" y="1237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7164360" y="220500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 or 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6948360" y="4005360"/>
            <a:ext cx="19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16 mo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7524720" y="2924280"/>
            <a:ext cx="504720" cy="647640"/>
          </a:xfrm>
          <a:prstGeom prst="downArrow">
            <a:avLst>
              <a:gd name="adj1" fmla="val 50000"/>
              <a:gd name="adj2" fmla="val 3207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539640" y="5734080"/>
            <a:ext cx="79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Matrix’ = active, communal, original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Simulation Scenarios as Metaphysical Hypotheses, not Sceptical Hypotheses (Chalmers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41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f we were simulants, most of our beliefs about our world would still be tr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ut: our world would have a different 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natur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than we commonly believ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.g. physical things are constituted by computational proc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me plausibility for COMMUNAL si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619280" y="259920"/>
            <a:ext cx="5689440" cy="84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Pragmatic Issues: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042920" y="1773360"/>
            <a:ext cx="2592360" cy="1225440"/>
          </a:xfrm>
          <a:prstGeom prst="wedgeRectCallout">
            <a:avLst>
              <a:gd name="adj1" fmla="val 53000"/>
              <a:gd name="adj2" fmla="val 68782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hould I ac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fferentl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724360" y="1557360"/>
            <a:ext cx="2592720" cy="1225440"/>
          </a:xfrm>
          <a:prstGeom prst="wedgeRectCallout">
            <a:avLst>
              <a:gd name="adj1" fmla="val -113379"/>
              <a:gd name="adj2" fmla="val 91708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hould I b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press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68360" y="4365720"/>
            <a:ext cx="3600360" cy="1800000"/>
          </a:xfrm>
          <a:prstGeom prst="wedgeRoundRectCallout">
            <a:avLst>
              <a:gd name="adj1" fmla="val 40564"/>
              <a:gd name="adj2" fmla="val -98675"/>
              <a:gd name="adj3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y life is boring: does this redu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odd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859280" y="3789360"/>
            <a:ext cx="4032360" cy="2376360"/>
          </a:xfrm>
          <a:prstGeom prst="wedgeRoundRectCallout">
            <a:avLst>
              <a:gd name="adj1" fmla="val -68462"/>
              <a:gd name="adj2" fmla="val -60087"/>
              <a:gd name="adj3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y life is unusually interesting: does this incr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odd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Simulation Argument: cont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Your conviction that your life is non-virtual is no better founded than anybody else’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: 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if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the Simulation Hypothesis is true, the odds of your life being non-virtual are low (e.g. 1 in 1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The price of fame: high sim odd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716" name="" descr=""/>
          <p:cNvPicPr/>
          <p:nvPr/>
        </p:nvPicPr>
        <p:blipFill>
          <a:blip r:embed="rId1"/>
          <a:stretch/>
        </p:blipFill>
        <p:spPr>
          <a:xfrm>
            <a:off x="2195640" y="1341360"/>
            <a:ext cx="47718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But my life is too dull 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718" name="" descr=""/>
          <p:cNvPicPr/>
          <p:nvPr/>
        </p:nvPicPr>
        <p:blipFill>
          <a:blip r:embed="rId1"/>
          <a:stretch/>
        </p:blipFill>
        <p:spPr>
          <a:xfrm>
            <a:off x="900000" y="1076400"/>
            <a:ext cx="770436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68360" y="573372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No life is too dull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2268360" y="1773360"/>
            <a:ext cx="4753080" cy="356688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395280" y="404640"/>
            <a:ext cx="822960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‘</a:t>
            </a: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The Sims’ = bestselling computer game for the past </a:t>
            </a: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three yea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3440" cy="11397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Simulation Eth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468360" y="1916280"/>
            <a:ext cx="3240000" cy="863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reation Iss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859280" y="1916280"/>
            <a:ext cx="3816360" cy="863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intenance Iss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2195640" y="4292640"/>
            <a:ext cx="5832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1403280" y="3357720"/>
            <a:ext cx="6480360" cy="1464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Question: might ethical scruples diminish the menace posed by the Simulation Argument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28" name=""/>
          <p:cNvCxnSpPr>
            <a:stCxn id="724" idx="1"/>
            <a:endCxn id="727" idx="1"/>
          </p:cNvCxnSpPr>
          <p:nvPr/>
        </p:nvCxnSpPr>
        <p:spPr>
          <a:xfrm flipH="1" flipV="1" rot="10800000">
            <a:off x="468000" y="2347560"/>
            <a:ext cx="916560" cy="1761120"/>
          </a:xfrm>
          <a:prstGeom prst="bentConnector3">
            <a:avLst>
              <a:gd name="adj1" fmla="val -24950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250920" y="836640"/>
            <a:ext cx="3456000" cy="2653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im subjects are being deceived about their real condition.  It’s wrong to deceive in this w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24000" y="260280"/>
            <a:ext cx="3311280" cy="5047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ception Obj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932360" y="620640"/>
            <a:ext cx="3816360" cy="1513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es the wro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weigh the gif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f existenc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211640" y="4149720"/>
            <a:ext cx="4248000" cy="1655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-sims, VR-vaca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ception = tempora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self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imposed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33" name=""/>
          <p:cNvCxnSpPr>
            <a:stCxn id="729" idx="3"/>
            <a:endCxn id="731" idx="1"/>
          </p:cNvCxnSpPr>
          <p:nvPr/>
        </p:nvCxnSpPr>
        <p:spPr>
          <a:xfrm flipV="1">
            <a:off x="3720600" y="1377720"/>
            <a:ext cx="1212120" cy="800640"/>
          </a:xfrm>
          <a:prstGeom prst="bentConnector3">
            <a:avLst>
              <a:gd name="adj1" fmla="val 4940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4" name=""/>
          <p:cNvCxnSpPr>
            <a:stCxn id="729" idx="2"/>
            <a:endCxn id="732" idx="1"/>
          </p:cNvCxnSpPr>
          <p:nvPr/>
        </p:nvCxnSpPr>
        <p:spPr>
          <a:xfrm flipH="1" rot="16200000">
            <a:off x="2373480" y="3139200"/>
            <a:ext cx="1445040" cy="223272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/>
          <p:nvPr/>
        </p:nvSpPr>
        <p:spPr>
          <a:xfrm>
            <a:off x="324000" y="189000"/>
            <a:ext cx="3384360" cy="7207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lf-Interest Obj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324000" y="981000"/>
            <a:ext cx="3456000" cy="1800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uture generations will restrict sims to secure their own re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292720" y="476280"/>
            <a:ext cx="3565440" cy="100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’t guarante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licy will be continu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5003640" y="1844640"/>
            <a:ext cx="3889440" cy="1152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posing forces: escapism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tertainment indus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1187280" y="4005360"/>
            <a:ext cx="3889440" cy="1152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lization: innoc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not be recaptu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40" name=""/>
          <p:cNvCxnSpPr>
            <a:stCxn id="736" idx="3"/>
            <a:endCxn id="737" idx="1"/>
          </p:cNvCxnSpPr>
          <p:nvPr/>
        </p:nvCxnSpPr>
        <p:spPr>
          <a:xfrm flipV="1">
            <a:off x="3793680" y="980640"/>
            <a:ext cx="1499400" cy="915120"/>
          </a:xfrm>
          <a:prstGeom prst="bentConnector3">
            <a:avLst>
              <a:gd name="adj1" fmla="val 49471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1" name=""/>
          <p:cNvCxnSpPr>
            <a:stCxn id="736" idx="3"/>
            <a:endCxn id="738" idx="1"/>
          </p:cNvCxnSpPr>
          <p:nvPr/>
        </p:nvCxnSpPr>
        <p:spPr>
          <a:xfrm>
            <a:off x="3794040" y="1895400"/>
            <a:ext cx="1210320" cy="526320"/>
          </a:xfrm>
          <a:prstGeom prst="bentConnector3">
            <a:avLst>
              <a:gd name="adj1" fmla="val 4933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2" name=""/>
          <p:cNvCxnSpPr>
            <a:stCxn id="736" idx="2"/>
            <a:endCxn id="739" idx="0"/>
          </p:cNvCxnSpPr>
          <p:nvPr/>
        </p:nvCxnSpPr>
        <p:spPr>
          <a:xfrm flipH="1" rot="16200000">
            <a:off x="2001600" y="2874600"/>
            <a:ext cx="1181880" cy="1080000"/>
          </a:xfrm>
          <a:prstGeom prst="bentConnector3">
            <a:avLst>
              <a:gd name="adj1" fmla="val 49299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3" name=""/>
          <p:cNvSpPr/>
          <p:nvPr/>
        </p:nvSpPr>
        <p:spPr>
          <a:xfrm>
            <a:off x="5724360" y="4869000"/>
            <a:ext cx="3024360" cy="11523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 us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44" name=""/>
          <p:cNvCxnSpPr>
            <a:stCxn id="739" idx="2"/>
            <a:endCxn id="743" idx="1"/>
          </p:cNvCxnSpPr>
          <p:nvPr/>
        </p:nvCxnSpPr>
        <p:spPr>
          <a:xfrm flipH="1" rot="16200000">
            <a:off x="4283280" y="4005000"/>
            <a:ext cx="288000" cy="259272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Sim innocence: can’t be regained, but </a:t>
            </a:r>
            <a:r>
              <a:rPr b="0" i="1" lang="en-GB" sz="4000" spc="-1" strike="noStrike">
                <a:solidFill>
                  <a:srgbClr val="ccecff"/>
                </a:solidFill>
                <a:latin typeface="Arial"/>
              </a:rPr>
              <a:t>can</a:t>
            </a: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 be simulated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95280" y="4724280"/>
            <a:ext cx="7993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8388360" y="1844640"/>
            <a:ext cx="0" cy="288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619280" y="4292640"/>
            <a:ext cx="136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572000" y="4724280"/>
            <a:ext cx="20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im 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 rot="5400000">
            <a:off x="5399640" y="2672280"/>
            <a:ext cx="360360" cy="5473800"/>
          </a:xfrm>
          <a:custGeom>
            <a:avLst/>
            <a:gdLst>
              <a:gd name="textAreaLeft" fmla="*/ 0 w 360360"/>
              <a:gd name="textAreaRight" fmla="*/ 129960 w 360360"/>
              <a:gd name="textAreaTop" fmla="*/ 142560 h 5473800"/>
              <a:gd name="textAreaBottom" fmla="*/ 5331240 h 547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79280" y="4797360"/>
            <a:ext cx="18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oc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1332000" y="5445000"/>
            <a:ext cx="18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372360" y="4797360"/>
            <a:ext cx="194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100,000 A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2050920" y="486900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 flipV="1">
            <a:off x="2268360" y="486900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443640" y="1844640"/>
            <a:ext cx="18352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pularit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no. of simulations/visi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611280" y="1844640"/>
            <a:ext cx="7561080" cy="2711520"/>
          </a:xfrm>
          <a:custGeom>
            <a:avLst/>
            <a:gdLst/>
            <a:ahLst/>
            <a:rect l="l" t="t" r="r" b="b"/>
            <a:pathLst>
              <a:path w="4763" h="1708">
                <a:moveTo>
                  <a:pt x="0" y="408"/>
                </a:moveTo>
                <a:cubicBezTo>
                  <a:pt x="64" y="306"/>
                  <a:pt x="128" y="204"/>
                  <a:pt x="272" y="136"/>
                </a:cubicBezTo>
                <a:cubicBezTo>
                  <a:pt x="416" y="68"/>
                  <a:pt x="673" y="0"/>
                  <a:pt x="862" y="0"/>
                </a:cubicBezTo>
                <a:cubicBezTo>
                  <a:pt x="1051" y="0"/>
                  <a:pt x="1270" y="0"/>
                  <a:pt x="1406" y="136"/>
                </a:cubicBezTo>
                <a:cubicBezTo>
                  <a:pt x="1542" y="272"/>
                  <a:pt x="1588" y="590"/>
                  <a:pt x="1679" y="817"/>
                </a:cubicBezTo>
                <a:cubicBezTo>
                  <a:pt x="1770" y="1044"/>
                  <a:pt x="1754" y="1353"/>
                  <a:pt x="1951" y="1497"/>
                </a:cubicBezTo>
                <a:cubicBezTo>
                  <a:pt x="2148" y="1641"/>
                  <a:pt x="2389" y="1648"/>
                  <a:pt x="2858" y="1678"/>
                </a:cubicBezTo>
                <a:cubicBezTo>
                  <a:pt x="3327" y="1708"/>
                  <a:pt x="4045" y="1693"/>
                  <a:pt x="4763" y="1678"/>
                </a:cubicBezTo>
              </a:path>
            </a:pathLst>
          </a:custGeom>
          <a:noFill/>
          <a:ln w="2844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1332000" y="1989000"/>
            <a:ext cx="6769080" cy="295128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2771640" y="5157720"/>
            <a:ext cx="453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um total of intelligent conscious be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332000" y="3068640"/>
            <a:ext cx="1512720" cy="863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3995640" y="2565360"/>
            <a:ext cx="252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ake sim threat serious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539640" y="170028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on’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rot="3577200">
            <a:off x="1074240" y="2515680"/>
            <a:ext cx="1081080" cy="360360"/>
          </a:xfrm>
          <a:prstGeom prst="rightArrow">
            <a:avLst>
              <a:gd name="adj1" fmla="val 0"/>
              <a:gd name="adj2" fmla="val 14404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755640" y="189000"/>
            <a:ext cx="77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cluding speculations: Might We Be In a Minorit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A further (final?) Copernican shift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258920" y="1773360"/>
            <a:ext cx="6769080" cy="38163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virtu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5364000" y="2492280"/>
            <a:ext cx="1224000" cy="7207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979640" y="580536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um total of conscious l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395280" y="3860640"/>
            <a:ext cx="41580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900000" y="18900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veryone believes 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their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own lives to be real, non-virtual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370240" y="3860640"/>
            <a:ext cx="41580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211560" y="3860640"/>
            <a:ext cx="41580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96000" y="3860640"/>
            <a:ext cx="41436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052880" y="3860640"/>
            <a:ext cx="41580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737320" y="3860640"/>
            <a:ext cx="41436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578640" y="3860640"/>
            <a:ext cx="41580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261280" y="3860640"/>
            <a:ext cx="41616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419960" y="3860640"/>
            <a:ext cx="41580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38200" y="2492280"/>
            <a:ext cx="1079640" cy="1079640"/>
          </a:xfrm>
          <a:prstGeom prst="wedgeRoundRectCallout">
            <a:avLst>
              <a:gd name="adj1" fmla="val -35736"/>
              <a:gd name="adj2" fmla="val 73824"/>
              <a:gd name="adj3" fmla="val 1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’m real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338560" y="2421000"/>
            <a:ext cx="1079280" cy="1079280"/>
          </a:xfrm>
          <a:prstGeom prst="wedgeRoundRectCallout">
            <a:avLst>
              <a:gd name="adj1" fmla="val -18236"/>
              <a:gd name="adj2" fmla="val 75296"/>
              <a:gd name="adj3" fmla="val 1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’m real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346560" y="5013360"/>
            <a:ext cx="1079280" cy="1079640"/>
          </a:xfrm>
          <a:prstGeom prst="wedgeRoundRectCallout">
            <a:avLst>
              <a:gd name="adj1" fmla="val -33236"/>
              <a:gd name="adj2" fmla="val -114263"/>
              <a:gd name="adj3" fmla="val 1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’m real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635280" y="2421000"/>
            <a:ext cx="1079640" cy="1079280"/>
          </a:xfrm>
          <a:prstGeom prst="wedgeRoundRectCallout">
            <a:avLst>
              <a:gd name="adj1" fmla="val 2500"/>
              <a:gd name="adj2" fmla="val 74412"/>
              <a:gd name="adj3" fmla="val 1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’m real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572000" y="5013360"/>
            <a:ext cx="1079640" cy="1079640"/>
          </a:xfrm>
          <a:prstGeom prst="wedgeRoundRectCallout">
            <a:avLst>
              <a:gd name="adj1" fmla="val -4560"/>
              <a:gd name="adj2" fmla="val -109703"/>
              <a:gd name="adj3" fmla="val 1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’m real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30920" y="2276640"/>
            <a:ext cx="1079280" cy="1079280"/>
          </a:xfrm>
          <a:prstGeom prst="wedgeRoundRectCallout">
            <a:avLst>
              <a:gd name="adj1" fmla="val 38527"/>
              <a:gd name="adj2" fmla="val 88527"/>
              <a:gd name="adj3" fmla="val 1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’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al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012000" y="4940280"/>
            <a:ext cx="1079280" cy="1079640"/>
          </a:xfrm>
          <a:prstGeom prst="wedgeRoundRectCallout">
            <a:avLst>
              <a:gd name="adj1" fmla="val 16615"/>
              <a:gd name="adj2" fmla="val -106472"/>
              <a:gd name="adj3" fmla="val 1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’m real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659640" y="2349360"/>
            <a:ext cx="1079280" cy="1006560"/>
          </a:xfrm>
          <a:prstGeom prst="wedgeRoundRectCallout">
            <a:avLst>
              <a:gd name="adj1" fmla="val 24703"/>
              <a:gd name="adj2" fmla="val 90222"/>
              <a:gd name="adj3" fmla="val 1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’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al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307280" y="4940280"/>
            <a:ext cx="1079640" cy="1079640"/>
          </a:xfrm>
          <a:prstGeom prst="wedgeRoundRectCallout">
            <a:avLst>
              <a:gd name="adj1" fmla="val 63972"/>
              <a:gd name="adj2" fmla="val -109263"/>
              <a:gd name="adj3" fmla="val 1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’m real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95280" y="386064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Simulation Argument: conclus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19640" y="2060640"/>
            <a:ext cx="3097440" cy="2592360"/>
          </a:xfrm>
          <a:prstGeom prst="triangle">
            <a:avLst>
              <a:gd name="adj" fmla="val 5000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y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s real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796000" y="472428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gh prob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867280" y="155736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ow prob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rot="10800000">
            <a:off x="900000" y="2060280"/>
            <a:ext cx="3097440" cy="252072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H 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ru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405080" y="148428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gh prob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405080" y="465120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ow prob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042920" y="5805360"/>
            <a:ext cx="748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bability assignments (not to sca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1280" y="3141720"/>
            <a:ext cx="1584360" cy="358560"/>
          </a:xfrm>
          <a:prstGeom prst="rightArrow">
            <a:avLst>
              <a:gd name="adj1" fmla="val 50000"/>
              <a:gd name="adj2" fmla="val 1104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4T18:10:40Z</dcterms:created>
  <dc:creator>Barry Dainton</dc:creator>
  <dc:description/>
  <dc:language>en-US</dc:language>
  <cp:lastModifiedBy>Barry Dainton</cp:lastModifiedBy>
  <dcterms:modified xsi:type="dcterms:W3CDTF">2003-05-28T12:28:52Z</dcterms:modified>
  <cp:revision>69</cp:revision>
  <dc:subject/>
  <dc:title>Virtual Worlds</dc:title>
</cp:coreProperties>
</file>