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50F-0BEB-4D71-9E27-2D95C90E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985-7AC6-42E8-AEC4-1912BD4B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72F-C89B-4239-945A-11DD8705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784-EC92-4739-984E-1C18220F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F1FA-53A1-4501-A83B-2AABCED0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D510-96D1-4013-9F78-E1B52AAF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D6C8-6D01-452A-BD03-4ADFCB50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A209-C185-4D4B-B0DB-5F1A260A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EC4C-CD2E-4AB8-86B8-A7024333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4282-9C90-4054-913F-B9276F7E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9C06-50BB-4A67-B611-4010A1FA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D16-6137-479E-AFAA-2738CC80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9BCC-C32B-4F08-BFF1-CE524477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9E1F-8474-421C-9E20-6E655B40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D907-DA95-452B-B0AC-B7DA9E55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2D92-D510-4153-9718-90D33630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5937-912E-461D-ADE6-AA5F5CB1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542-53F3-42FD-A116-A7625ECC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70C-AE19-4720-A681-3DB28E28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136-9E6E-41B7-B8A7-0B55108D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394-9D74-448C-9629-51172D7C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0E4-364C-49EC-A3BC-E9F38A44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F0B-4759-4C35-9ACA-C26D29E6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806-5C67-45CF-BCAA-7D1DD864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4CF6-FADD-4275-AFBA-3D1DDA3917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36A7-5C6C-4CD7-A0A6-04E1D43588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Simulation Scenari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4176720" cy="313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08360" y="5300640"/>
            <a:ext cx="410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Barry Dain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419640" y="3429000"/>
            <a:ext cx="2232000" cy="1728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we  living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imul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1989000"/>
            <a:ext cx="2303280" cy="107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we le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liv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1916280"/>
            <a:ext cx="1800000" cy="93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Trum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836640"/>
            <a:ext cx="18730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Matr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3213000"/>
            <a:ext cx="1655640" cy="722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anilla 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4221000"/>
            <a:ext cx="1944720" cy="936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erm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5661000"/>
            <a:ext cx="201600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13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77080" y="1341360"/>
            <a:ext cx="15825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p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04000" y="2708280"/>
            <a:ext cx="1513080" cy="649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st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4076640"/>
            <a:ext cx="15843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1341360"/>
            <a:ext cx="79092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40000" y="2565360"/>
            <a:ext cx="576360" cy="7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40000" y="3573360"/>
            <a:ext cx="719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484360" y="4365360"/>
            <a:ext cx="64764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84360" y="5157720"/>
            <a:ext cx="719280" cy="72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796000" y="1700280"/>
            <a:ext cx="79200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795640" y="436572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796000" y="3141720"/>
            <a:ext cx="72072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948360" y="5445000"/>
            <a:ext cx="1440000" cy="71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cG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867280" y="5229000"/>
            <a:ext cx="86544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32000" y="189000"/>
            <a:ext cx="3095640" cy="94716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n old theme with a new tw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5516640"/>
            <a:ext cx="2952720" cy="9471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nd sudden notor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843280" y="404640"/>
            <a:ext cx="2232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g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ere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987640" y="2492280"/>
            <a:ext cx="216072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olog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ere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27280" y="4797360"/>
            <a:ext cx="2232000" cy="129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olog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&amp;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quite likel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164360" y="404640"/>
            <a:ext cx="216000" cy="3529080"/>
          </a:xfrm>
          <a:custGeom>
            <a:avLst/>
            <a:gdLst>
              <a:gd name="textAreaLeft" fmla="*/ 0 w 216000"/>
              <a:gd name="textAreaRight" fmla="*/ 78120 w 21600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236000" y="4653000"/>
            <a:ext cx="360360" cy="1584360"/>
          </a:xfrm>
          <a:custGeom>
            <a:avLst/>
            <a:gdLst>
              <a:gd name="textAreaLeft" fmla="*/ 0 w 360360"/>
              <a:gd name="textAreaRight" fmla="*/ 129960 w 360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51640" y="333360"/>
            <a:ext cx="1692360" cy="1440000"/>
          </a:xfrm>
          <a:prstGeom prst="cloudCallout">
            <a:avLst>
              <a:gd name="adj1" fmla="val -43995"/>
              <a:gd name="adj2" fmla="val 7480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eat = i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96360" y="3716280"/>
            <a:ext cx="1547640" cy="1224000"/>
          </a:xfrm>
          <a:prstGeom prst="cloudCallout">
            <a:avLst>
              <a:gd name="adj1" fmla="val -40050"/>
              <a:gd name="adj2" fmla="val 8956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48360" y="765000"/>
            <a:ext cx="1871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ar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2492280"/>
            <a:ext cx="1800360" cy="138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ndard vat-brai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sci-f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32360" y="4869000"/>
            <a:ext cx="2160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ipler, Bostrom, posthuman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4000" y="189000"/>
            <a:ext cx="2089080" cy="19429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e be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315" idx="2"/>
            <a:endCxn id="316" idx="0"/>
          </p:cNvCxnSpPr>
          <p:nvPr/>
        </p:nvCxnSpPr>
        <p:spPr>
          <a:xfrm flipH="1" rot="16200000">
            <a:off x="3618000" y="2041200"/>
            <a:ext cx="792720" cy="110160"/>
          </a:xfrm>
          <a:prstGeom prst="curvedConnector5">
            <a:avLst>
              <a:gd name="adj1" fmla="val 49886"/>
              <a:gd name="adj2" fmla="val 49836"/>
              <a:gd name="adj3" fmla="val 49886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16" idx="2"/>
            <a:endCxn id="317" idx="0"/>
          </p:cNvCxnSpPr>
          <p:nvPr/>
        </p:nvCxnSpPr>
        <p:spPr>
          <a:xfrm rot="5400000">
            <a:off x="3436920" y="4166280"/>
            <a:ext cx="937440" cy="326160"/>
          </a:xfrm>
          <a:prstGeom prst="curvedConnector5">
            <a:avLst>
              <a:gd name="adj1" fmla="val 49980"/>
              <a:gd name="adj2" fmla="val 49944"/>
              <a:gd name="adj3" fmla="val 49980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5" idx="3"/>
            <a:endCxn id="315" idx="1"/>
          </p:cNvCxnSpPr>
          <p:nvPr/>
        </p:nvCxnSpPr>
        <p:spPr>
          <a:xfrm flipV="1">
            <a:off x="2412720" y="1052280"/>
            <a:ext cx="430920" cy="108720"/>
          </a:xfrm>
          <a:prstGeom prst="curvedConnector5">
            <a:avLst>
              <a:gd name="adj1" fmla="val 49749"/>
              <a:gd name="adj2" fmla="val 49833"/>
              <a:gd name="adj3" fmla="val 49749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24000" y="3933720"/>
            <a:ext cx="2052360" cy="12956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" name=""/>
          <p:cNvCxnSpPr>
            <a:stCxn id="317" idx="0"/>
            <a:endCxn id="329" idx="3"/>
          </p:cNvCxnSpPr>
          <p:nvPr/>
        </p:nvCxnSpPr>
        <p:spPr>
          <a:xfrm flipV="1" rot="16200000">
            <a:off x="2970360" y="4024440"/>
            <a:ext cx="216720" cy="1329480"/>
          </a:xfrm>
          <a:prstGeom prst="curvedConnector2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9" idx="0"/>
            <a:endCxn id="325" idx="2"/>
          </p:cNvCxnSpPr>
          <p:nvPr/>
        </p:nvCxnSpPr>
        <p:spPr>
          <a:xfrm flipH="1" flipV="1" rot="5400000">
            <a:off x="477720" y="3004560"/>
            <a:ext cx="1764360" cy="18000"/>
          </a:xfrm>
          <a:prstGeom prst="curvedConnector5">
            <a:avLst>
              <a:gd name="adj1" fmla="val 48857"/>
              <a:gd name="adj2" fmla="val 48979"/>
              <a:gd name="adj3" fmla="val 48857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56000" y="1484280"/>
            <a:ext cx="4032000" cy="216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Argum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lusion: t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ulation men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somewhat) seriou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4292640"/>
            <a:ext cx="2376360" cy="792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end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4292640"/>
            <a:ext cx="2376360" cy="793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ress qu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56360" y="4292640"/>
            <a:ext cx="244800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m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60280"/>
            <a:ext cx="3456000" cy="792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My aims her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36" idx="3"/>
            <a:endCxn id="332" idx="0"/>
          </p:cNvCxnSpPr>
          <p:nvPr/>
        </p:nvCxnSpPr>
        <p:spPr>
          <a:xfrm>
            <a:off x="3851280" y="657000"/>
            <a:ext cx="721440" cy="82764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6" idx="2"/>
            <a:endCxn id="332" idx="1"/>
          </p:cNvCxnSpPr>
          <p:nvPr/>
        </p:nvCxnSpPr>
        <p:spPr>
          <a:xfrm flipH="1" rot="16200000">
            <a:off x="1583640" y="1592640"/>
            <a:ext cx="1513440" cy="43272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2" idx="2"/>
            <a:endCxn id="335" idx="0"/>
          </p:cNvCxnSpPr>
          <p:nvPr/>
        </p:nvCxnSpPr>
        <p:spPr>
          <a:xfrm flipH="1" rot="16200000">
            <a:off x="5651280" y="2564280"/>
            <a:ext cx="648360" cy="280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2" idx="2"/>
            <a:endCxn id="333" idx="0"/>
          </p:cNvCxnSpPr>
          <p:nvPr/>
        </p:nvCxnSpPr>
        <p:spPr>
          <a:xfrm rot="5400000">
            <a:off x="2718000" y="2439000"/>
            <a:ext cx="648360" cy="3060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2" idx="2"/>
            <a:endCxn id="334" idx="0"/>
          </p:cNvCxnSpPr>
          <p:nvPr/>
        </p:nvCxnSpPr>
        <p:spPr>
          <a:xfrm rot="5400000">
            <a:off x="4194360" y="3915360"/>
            <a:ext cx="648360" cy="106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2376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Next: 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Why believe menacing simulations might exist in the required (vast) number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042920" y="3068640"/>
            <a:ext cx="6624720" cy="3318480"/>
            <a:chOff x="1042920" y="3068640"/>
            <a:chExt cx="6624720" cy="3318480"/>
          </a:xfrm>
        </p:grpSpPr>
        <p:sp>
          <p:nvSpPr>
            <p:cNvPr id="344" name=""/>
            <p:cNvSpPr/>
            <p:nvPr/>
          </p:nvSpPr>
          <p:spPr>
            <a:xfrm>
              <a:off x="1042920" y="4077000"/>
              <a:ext cx="2305080" cy="718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6 billi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47640" y="3068640"/>
              <a:ext cx="136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actua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19640" y="3789360"/>
              <a:ext cx="2448000" cy="719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60 billion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3141720"/>
              <a:ext cx="136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virtua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79640" y="5805720"/>
              <a:ext cx="54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Type-2003 day/life stream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19640" y="4869000"/>
              <a:ext cx="2448000" cy="719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600 billion?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755640" y="1052640"/>
            <a:ext cx="7127640" cy="5471640"/>
            <a:chOff x="755640" y="1052640"/>
            <a:chExt cx="7127640" cy="5471640"/>
          </a:xfrm>
        </p:grpSpPr>
        <p:sp>
          <p:nvSpPr>
            <p:cNvPr id="351" name=""/>
            <p:cNvSpPr/>
            <p:nvPr/>
          </p:nvSpPr>
          <p:spPr>
            <a:xfrm>
              <a:off x="3249360" y="1052640"/>
              <a:ext cx="2566080" cy="12837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Two method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f simul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5640" y="3011040"/>
              <a:ext cx="2566080" cy="12834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-simulation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7200" y="3011040"/>
              <a:ext cx="2566080" cy="12834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-simulation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49360" y="5240880"/>
              <a:ext cx="2566080" cy="12834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Two types 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5" name=""/>
            <p:cNvCxnSpPr>
              <a:stCxn id="351" idx="1"/>
              <a:endCxn id="352" idx="0"/>
            </p:cNvCxnSpPr>
            <p:nvPr/>
          </p:nvCxnSpPr>
          <p:spPr>
            <a:xfrm flipV="1" rot="10800000">
              <a:off x="2038320" y="1694520"/>
              <a:ext cx="1210680" cy="131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stCxn id="354" idx="1"/>
              <a:endCxn id="352" idx="2"/>
            </p:cNvCxnSpPr>
            <p:nvPr/>
          </p:nvCxnSpPr>
          <p:spPr>
            <a:xfrm rot="10800000">
              <a:off x="2038320" y="4294080"/>
              <a:ext cx="1210680" cy="158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>
              <a:stCxn id="351" idx="3"/>
              <a:endCxn id="353" idx="0"/>
            </p:cNvCxnSpPr>
            <p:nvPr/>
          </p:nvCxnSpPr>
          <p:spPr>
            <a:xfrm>
              <a:off x="5815440" y="1694520"/>
              <a:ext cx="786240" cy="131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4" idx="3"/>
              <a:endCxn id="353" idx="2"/>
            </p:cNvCxnSpPr>
            <p:nvPr/>
          </p:nvCxnSpPr>
          <p:spPr>
            <a:xfrm flipV="1">
              <a:off x="5815440" y="4294440"/>
              <a:ext cx="786240" cy="158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59" name=""/>
            <p:cNvSpPr/>
            <p:nvPr/>
          </p:nvSpPr>
          <p:spPr>
            <a:xfrm>
              <a:off x="3606120" y="3416400"/>
              <a:ext cx="1497240" cy="473400"/>
            </a:xfrm>
            <a:prstGeom prst="leftRightArrow">
              <a:avLst>
                <a:gd name="adj1" fmla="val 50000"/>
                <a:gd name="adj2" fmla="val 62962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19640" y="2403360"/>
              <a:ext cx="213480" cy="2701440"/>
            </a:xfrm>
            <a:prstGeom prst="downArrow">
              <a:avLst>
                <a:gd name="adj1" fmla="val 50000"/>
                <a:gd name="adj2" fmla="val 316358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0" y="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other distin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417168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S-simulations: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scious lives generated by running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oftwa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n compu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NOT brains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788000" y="620640"/>
            <a:ext cx="4038480" cy="4525920"/>
          </a:xfrm>
          <a:prstGeom prst="rect">
            <a:avLst/>
          </a:prstGeom>
          <a:noFill/>
          <a:ln w="19080">
            <a:solidFill>
              <a:srgbClr val="99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H-simula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scious lives produced by directly tampering with neural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trix-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at-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4000" y="5445000"/>
            <a:ext cx="417672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88000" y="5445000"/>
            <a:ext cx="417672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U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+ 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-sims: the high-ro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84360" y="1773360"/>
            <a:ext cx="3959280" cy="792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humanism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3357720"/>
            <a:ext cx="3024000" cy="1152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rs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ST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3357720"/>
            <a:ext cx="3024360" cy="1152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sitories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conscious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7" idx="2"/>
            <a:endCxn id="368" idx="0"/>
          </p:cNvCxnSpPr>
          <p:nvPr/>
        </p:nvCxnSpPr>
        <p:spPr>
          <a:xfrm rot="5400000">
            <a:off x="2933640" y="1827720"/>
            <a:ext cx="793080" cy="2267640"/>
          </a:xfrm>
          <a:prstGeom prst="curvedConnector5">
            <a:avLst>
              <a:gd name="adj1" fmla="val 49863"/>
              <a:gd name="adj2" fmla="val 50000"/>
              <a:gd name="adj3" fmla="val 4986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7" idx="2"/>
            <a:endCxn id="369" idx="0"/>
          </p:cNvCxnSpPr>
          <p:nvPr/>
        </p:nvCxnSpPr>
        <p:spPr>
          <a:xfrm flipH="1" rot="16200000">
            <a:off x="5129640" y="1898280"/>
            <a:ext cx="793080" cy="2126520"/>
          </a:xfrm>
          <a:prstGeom prst="curvedConnector5">
            <a:avLst>
              <a:gd name="adj1" fmla="val 49863"/>
              <a:gd name="adj2" fmla="val 50000"/>
              <a:gd name="adj3" fmla="val 4986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971640" y="476280"/>
            <a:ext cx="7919640" cy="1655640"/>
            <a:chOff x="971640" y="476280"/>
            <a:chExt cx="7919640" cy="1655640"/>
          </a:xfrm>
        </p:grpSpPr>
        <p:sp>
          <p:nvSpPr>
            <p:cNvPr id="373" name=""/>
            <p:cNvSpPr/>
            <p:nvPr/>
          </p:nvSpPr>
          <p:spPr>
            <a:xfrm>
              <a:off x="971640" y="818640"/>
              <a:ext cx="2917440" cy="913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niversal computer’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61800" y="476280"/>
              <a:ext cx="4029480" cy="16556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any simulatio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f every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possib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huma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eam of conscious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(of finite duration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28400" y="1161000"/>
              <a:ext cx="624960" cy="285480"/>
            </a:xfrm>
            <a:prstGeom prst="rightArrow">
              <a:avLst>
                <a:gd name="adj1" fmla="val 50000"/>
                <a:gd name="adj2" fmla="val 5472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755640" y="2924280"/>
            <a:ext cx="3382920" cy="331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etary-m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en-GB" sz="2400" spc="-1" strike="noStrike" baseline="30000">
                <a:solidFill>
                  <a:srgbClr val="0033cc"/>
                </a:solidFill>
                <a:latin typeface="Arial"/>
              </a:rPr>
              <a:t>42 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19640" y="3068640"/>
            <a:ext cx="215892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ime required for running of ‘ancestor simulation’ =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7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6" idx="6"/>
            <a:endCxn id="377" idx="1"/>
          </p:cNvCxnSpPr>
          <p:nvPr/>
        </p:nvCxnSpPr>
        <p:spPr>
          <a:xfrm flipV="1">
            <a:off x="4138200" y="4041000"/>
            <a:ext cx="1067400" cy="538920"/>
          </a:xfrm>
          <a:prstGeom prst="curvedConnector5">
            <a:avLst>
              <a:gd name="adj1" fmla="val 50573"/>
              <a:gd name="adj2" fmla="val 50000"/>
              <a:gd name="adj3" fmla="val 50573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3924360" y="5516640"/>
            <a:ext cx="15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one of man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92360" y="26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p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23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ost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68000" y="4076640"/>
            <a:ext cx="8435880" cy="93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0 billion humans x 50 years/human x 3 million secs per year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17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s per brain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0"/>
            <a:ext cx="7920000" cy="1191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ncestor simulation’ = simulation of entire mental history of humanki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1989000"/>
            <a:ext cx="3600360" cy="1373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ypical human brain: operations per second = 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- 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76720" y="1989000"/>
            <a:ext cx="3745080" cy="1373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s required for 1 ancestor simulation = 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32-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6" name=""/>
          <p:cNvCxnSpPr>
            <a:stCxn id="384" idx="3"/>
            <a:endCxn id="385" idx="1"/>
          </p:cNvCxnSpPr>
          <p:nvPr/>
        </p:nvCxnSpPr>
        <p:spPr>
          <a:xfrm>
            <a:off x="4078080" y="2685600"/>
            <a:ext cx="98928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82" idx="0"/>
            <a:endCxn id="385" idx="2"/>
          </p:cNvCxnSpPr>
          <p:nvPr/>
        </p:nvCxnSpPr>
        <p:spPr>
          <a:xfrm flipH="1" flipV="1" rot="5400000">
            <a:off x="5479920" y="2596680"/>
            <a:ext cx="677160" cy="2264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1258920" y="5373720"/>
            <a:ext cx="662472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ssumption: humankind superseded in a few centu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1776600" cy="16304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1776600" cy="16300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2627280" y="1773360"/>
            <a:ext cx="1776600" cy="16300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659640" y="184464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>
            <a:off x="684360" y="393372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6"/>
          <a:stretch/>
        </p:blipFill>
        <p:spPr>
          <a:xfrm>
            <a:off x="4716360" y="3860640"/>
            <a:ext cx="1776600" cy="1630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7"/>
          <a:stretch/>
        </p:blipFill>
        <p:spPr>
          <a:xfrm>
            <a:off x="2627280" y="3933720"/>
            <a:ext cx="1776600" cy="16304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6659640" y="4005360"/>
            <a:ext cx="1776240" cy="16304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-simulations: low ro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Preliminary (crude) definitions: 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real v. simulat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experienc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imulate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it is produced by non-standard methods in a controlled fash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standard = NOT by bodies/brains interacting with physical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g. Demons,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lif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or part of one) is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virtual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it is composed of simulated experi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075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Desktop PC Power: next few yea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59640" y="321300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ypical human 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2720" y="50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030-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8920" y="57340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oore’s Law’:  computational power per $ doubles every two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9280" y="1484280"/>
            <a:ext cx="8604360" cy="3917160"/>
            <a:chOff x="179280" y="1484280"/>
            <a:chExt cx="8604360" cy="3917160"/>
          </a:xfrm>
        </p:grpSpPr>
        <p:sp>
          <p:nvSpPr>
            <p:cNvPr id="403" name=""/>
            <p:cNvSpPr/>
            <p:nvPr/>
          </p:nvSpPr>
          <p:spPr>
            <a:xfrm>
              <a:off x="611280" y="4797360"/>
              <a:ext cx="590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515280" y="2420640"/>
              <a:ext cx="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940360" y="3571920"/>
              <a:ext cx="57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88000" y="1773360"/>
              <a:ext cx="21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mputational pow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8360" y="4941720"/>
              <a:ext cx="21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76360" y="2492280"/>
              <a:ext cx="4824360" cy="2111400"/>
            </a:xfrm>
            <a:custGeom>
              <a:avLst/>
              <a:gdLst/>
              <a:ahLst/>
              <a:rect l="l" t="t" r="r" b="b"/>
              <a:pathLst>
                <a:path w="3039" h="1330">
                  <a:moveTo>
                    <a:pt x="0" y="1316"/>
                  </a:moveTo>
                  <a:cubicBezTo>
                    <a:pt x="532" y="1323"/>
                    <a:pt x="1065" y="1330"/>
                    <a:pt x="1496" y="1270"/>
                  </a:cubicBezTo>
                  <a:cubicBezTo>
                    <a:pt x="1927" y="1210"/>
                    <a:pt x="2328" y="1165"/>
                    <a:pt x="2585" y="953"/>
                  </a:cubicBezTo>
                  <a:cubicBezTo>
                    <a:pt x="2842" y="741"/>
                    <a:pt x="2940" y="370"/>
                    <a:pt x="3039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40360" y="3573360"/>
              <a:ext cx="0" cy="12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0920" y="1484280"/>
              <a:ext cx="21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Predictions: Kurzweil, Morave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03640" y="2349360"/>
              <a:ext cx="194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100 million op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2924280"/>
              <a:ext cx="158436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9280" y="3284640"/>
              <a:ext cx="32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Arial"/>
                </a:rPr>
                <a:t>Supercomputer (circa 2000) = 10 million op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59280" y="4005360"/>
              <a:ext cx="194436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-simulations: low roa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all-scale sims; on small machines (e.g. deskt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large number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tertainment: God-games (‘The Sims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earch: historical, pol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exploring counterfactual his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 many years (a few centur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= billions of menacing sim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God games: ‘The Sims’, ‘Civilization’, etc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urrently, their ‘inhabitants’ ar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future: that could ch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re processing power/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re autonomous characters -&gt; more entertaining specta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n ordinary (virtual) family: ‘The Sims’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55640" y="1035000"/>
            <a:ext cx="77770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ample number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 million simulated T(2003) day-streams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ume: very large futur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100,000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ume: quite l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tal of: 2000 billion menacing d-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: significant simulation menace (5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2000 billion actual 2003 d-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692360" y="0"/>
            <a:ext cx="6408720" cy="74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-simulations: how great a men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484360" y="5013360"/>
            <a:ext cx="3743280" cy="129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upposes 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versial theory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556000" y="3716280"/>
            <a:ext cx="3959280" cy="1008000"/>
            <a:chOff x="2556000" y="3716280"/>
            <a:chExt cx="3959280" cy="1008000"/>
          </a:xfrm>
        </p:grpSpPr>
        <p:sp>
          <p:nvSpPr>
            <p:cNvPr id="428" name=""/>
            <p:cNvSpPr/>
            <p:nvPr/>
          </p:nvSpPr>
          <p:spPr>
            <a:xfrm>
              <a:off x="2556000" y="378756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BUT!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75280" y="37162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BUT!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96000" y="3787560"/>
              <a:ext cx="792000" cy="936720"/>
            </a:xfrm>
            <a:prstGeom prst="downArrow">
              <a:avLst>
                <a:gd name="adj1" fmla="val 50000"/>
                <a:gd name="adj2" fmla="val 29568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95280" y="2133720"/>
            <a:ext cx="2089080" cy="936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ati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" y="1125360"/>
            <a:ext cx="2160360" cy="865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-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76720" y="1916280"/>
            <a:ext cx="863640" cy="502920"/>
          </a:xfrm>
          <a:prstGeom prst="rightArrow">
            <a:avLst>
              <a:gd name="adj1" fmla="val 50000"/>
              <a:gd name="adj2" fmla="val 4293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484280"/>
            <a:ext cx="2305080" cy="1441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ST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2302560" y="873720"/>
            <a:ext cx="433080" cy="4680000"/>
          </a:xfrm>
          <a:custGeom>
            <a:avLst/>
            <a:gdLst>
              <a:gd name="textAreaLeft" fmla="*/ 0 w 433080"/>
              <a:gd name="textAreaRight" fmla="*/ 156240 w 43308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71640" y="1125360"/>
            <a:ext cx="1800360" cy="865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771640" y="2133720"/>
            <a:ext cx="1800360" cy="865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484360" y="189000"/>
            <a:ext cx="4032360" cy="1873080"/>
          </a:xfrm>
          <a:prstGeom prst="rect">
            <a:avLst/>
          </a:prstGeom>
          <a:solidFill>
            <a:srgbClr val="8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: How worr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the comput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ulation men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2492280"/>
            <a:ext cx="2663640" cy="7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0920" y="3500280"/>
            <a:ext cx="2663640" cy="9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redu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84720" y="2492280"/>
            <a:ext cx="2664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eri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84720" y="3500280"/>
            <a:ext cx="266400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" y="692280"/>
            <a:ext cx="1800000" cy="1152360"/>
          </a:xfrm>
          <a:prstGeom prst="cloudCallout">
            <a:avLst>
              <a:gd name="adj1" fmla="val 10138"/>
              <a:gd name="adj2" fmla="val 11005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48360" y="620640"/>
            <a:ext cx="1800360" cy="1152720"/>
          </a:xfrm>
          <a:prstGeom prst="cloudCallout">
            <a:avLst>
              <a:gd name="adj1" fmla="val -25574"/>
              <a:gd name="adj2" fmla="val 11818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’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1280" y="458136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ema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y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72360" y="4581360"/>
            <a:ext cx="201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ar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rt/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r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w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cG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3313080" cy="216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Broadening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‘appeal’ of 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. Arg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549360"/>
            <a:ext cx="2806560" cy="1944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menac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84720" y="126828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3500280"/>
            <a:ext cx="2376360" cy="1584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-SI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48" idx="2"/>
            <a:endCxn id="450" idx="3"/>
          </p:cNvCxnSpPr>
          <p:nvPr/>
        </p:nvCxnSpPr>
        <p:spPr>
          <a:xfrm rot="5400000">
            <a:off x="6281640" y="3159720"/>
            <a:ext cx="1799280" cy="467640"/>
          </a:xfrm>
          <a:prstGeom prst="curvedConnector2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24000" y="4005360"/>
            <a:ext cx="2374920" cy="122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s run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b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50" idx="1"/>
            <a:endCxn id="452" idx="3"/>
          </p:cNvCxnSpPr>
          <p:nvPr/>
        </p:nvCxnSpPr>
        <p:spPr>
          <a:xfrm flipH="1">
            <a:off x="2698200" y="4292640"/>
            <a:ext cx="1873800" cy="3261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Just suppos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at when the universe is considered as a whole, from a God’s eye vantage point, simulated lives greatly outnumber real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l this scenario: ‘simulation dominanc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5812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Neural interface technolog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42721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6580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50920" y="260280"/>
            <a:ext cx="4896000" cy="935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-SIMS: high ro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32000" y="1773360"/>
            <a:ext cx="2806920" cy="1224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ain-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2708280"/>
            <a:ext cx="2160720" cy="1008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i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88000" y="2708280"/>
            <a:ext cx="2160720" cy="1008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no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gine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1" name=""/>
          <p:cNvCxnSpPr>
            <a:stCxn id="458" idx="1"/>
            <a:endCxn id="459" idx="0"/>
          </p:cNvCxnSpPr>
          <p:nvPr/>
        </p:nvCxnSpPr>
        <p:spPr>
          <a:xfrm flipV="1" rot="10800000">
            <a:off x="1475640" y="2385000"/>
            <a:ext cx="1656360" cy="322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8" idx="3"/>
            <a:endCxn id="460" idx="0"/>
          </p:cNvCxnSpPr>
          <p:nvPr/>
        </p:nvCxnSpPr>
        <p:spPr>
          <a:xfrm>
            <a:off x="5938920" y="2385720"/>
            <a:ext cx="1730880" cy="322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3" name=""/>
          <p:cNvSpPr/>
          <p:nvPr/>
        </p:nvSpPr>
        <p:spPr>
          <a:xfrm>
            <a:off x="3132000" y="4365720"/>
            <a:ext cx="2806920" cy="1224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y immer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59" idx="2"/>
            <a:endCxn id="463" idx="0"/>
          </p:cNvCxnSpPr>
          <p:nvPr/>
        </p:nvCxnSpPr>
        <p:spPr>
          <a:xfrm flipH="1" rot="16200000">
            <a:off x="2681280" y="2511000"/>
            <a:ext cx="650160" cy="3060000"/>
          </a:xfrm>
          <a:prstGeom prst="bentConnector3">
            <a:avLst>
              <a:gd name="adj1" fmla="val 4986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60" idx="2"/>
            <a:endCxn id="463" idx="0"/>
          </p:cNvCxnSpPr>
          <p:nvPr/>
        </p:nvCxnSpPr>
        <p:spPr>
          <a:xfrm rot="5400000">
            <a:off x="5776920" y="2474280"/>
            <a:ext cx="650160" cy="3134160"/>
          </a:xfrm>
          <a:prstGeom prst="bentConnector3">
            <a:avLst>
              <a:gd name="adj1" fmla="val 4986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>
            <a:off x="1116000" y="5950080"/>
            <a:ext cx="2376360" cy="720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80000" y="5950080"/>
            <a:ext cx="2376720" cy="720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63" idx="2"/>
            <a:endCxn id="466" idx="3"/>
          </p:cNvCxnSpPr>
          <p:nvPr/>
        </p:nvCxnSpPr>
        <p:spPr>
          <a:xfrm rot="5400000">
            <a:off x="3653280" y="5428440"/>
            <a:ext cx="721440" cy="104364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3" idx="2"/>
            <a:endCxn id="467" idx="1"/>
          </p:cNvCxnSpPr>
          <p:nvPr/>
        </p:nvCxnSpPr>
        <p:spPr>
          <a:xfrm flipH="1" rot="16200000">
            <a:off x="4696560" y="5427720"/>
            <a:ext cx="721440" cy="1045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476360" y="4365720"/>
            <a:ext cx="1655640" cy="12412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1657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050920" y="260280"/>
            <a:ext cx="4896000" cy="935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-SIMS: low ro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32000" y="1773360"/>
            <a:ext cx="2806920" cy="1224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87640" y="5300640"/>
            <a:ext cx="3168720" cy="1008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immersive V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132000" y="3645000"/>
            <a:ext cx="2806920" cy="936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oit 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in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2708280"/>
            <a:ext cx="1944720" cy="100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59640" y="2781360"/>
            <a:ext cx="1944720" cy="100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8" name=""/>
          <p:cNvCxnSpPr>
            <a:stCxn id="473" idx="1"/>
            <a:endCxn id="476" idx="0"/>
          </p:cNvCxnSpPr>
          <p:nvPr/>
        </p:nvCxnSpPr>
        <p:spPr>
          <a:xfrm flipV="1" rot="10800000">
            <a:off x="1583640" y="2385000"/>
            <a:ext cx="1548360" cy="322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73" idx="3"/>
            <a:endCxn id="477" idx="0"/>
          </p:cNvCxnSpPr>
          <p:nvPr/>
        </p:nvCxnSpPr>
        <p:spPr>
          <a:xfrm>
            <a:off x="5938560" y="2386080"/>
            <a:ext cx="1694520" cy="39600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6" idx="2"/>
            <a:endCxn id="474" idx="1"/>
          </p:cNvCxnSpPr>
          <p:nvPr/>
        </p:nvCxnSpPr>
        <p:spPr>
          <a:xfrm flipH="1" rot="16200000">
            <a:off x="1241280" y="4058640"/>
            <a:ext cx="2089800" cy="140400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7" idx="2"/>
            <a:endCxn id="474" idx="3"/>
          </p:cNvCxnSpPr>
          <p:nvPr/>
        </p:nvCxnSpPr>
        <p:spPr>
          <a:xfrm rot="5400000">
            <a:off x="5885640" y="4059000"/>
            <a:ext cx="2016720" cy="1477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ne scenario: VR in educ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magine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a typical 23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century history le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pic: life as an ordinary 21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century 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thod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full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immersive virtual reality ‘trip’ to the 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end a few hours AS an ordinary 21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century 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4176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H-sims: will the technologies ever be develope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hard for us to envisage how (say) brain-machine interfaces of the kind required could be designed &amp; impleme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: remember Arthur C. Clarke’s ‘Third Law’: ‘Any sufficiently advanced technology is indistinguishable from magic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nk: what would a 19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century person have made of modern computers, atomic weapons, genetic manipulatio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H-sims technology: further reasons for ‘optimism’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uroscience: we still have much to 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earch in nano-technology, programmable matter continues a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ney no problem: entertainment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uter games bigger than mov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MOG phenomen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indicator of what’s to co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84360" y="333360"/>
            <a:ext cx="2376360" cy="136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MO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132000" y="404640"/>
            <a:ext cx="5400720" cy="1224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ive multip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ine gaming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042920" y="2349360"/>
            <a:ext cx="27352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ltima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ver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archy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55640" y="4869000"/>
            <a:ext cx="2376360" cy="136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MPO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03640" y="5013360"/>
            <a:ext cx="5400720" cy="1224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ive, multiplayer, on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le-playing ga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2060640"/>
            <a:ext cx="410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sistent world gam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00720" y="2924280"/>
            <a:ext cx="424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ants = 120,000 (simu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00720" y="3789360"/>
            <a:ext cx="410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oriously addi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58572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MOG: screensh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Dominanc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1413000"/>
            <a:ext cx="6769080" cy="3816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08720" y="2349360"/>
            <a:ext cx="1224000" cy="72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5516640"/>
            <a:ext cx="576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 total of conscious lives (in entire universe, all tim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4360" y="260280"/>
            <a:ext cx="2376360" cy="136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MO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508720" y="260280"/>
            <a:ext cx="2376360" cy="136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MPO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4360" y="5300640"/>
            <a:ext cx="81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ig money in sim technology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692360" y="2060640"/>
            <a:ext cx="56894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$$$$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-sims: relevant predi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87640" y="1557360"/>
            <a:ext cx="2806560" cy="1224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R trips to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t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58920" y="3357720"/>
            <a:ext cx="2806560" cy="122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possible 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03640" y="3357720"/>
            <a:ext cx="2953080" cy="122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numero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09" name=""/>
          <p:cNvCxnSpPr>
            <a:stCxn id="506" idx="1"/>
            <a:endCxn id="507" idx="1"/>
          </p:cNvCxnSpPr>
          <p:nvPr/>
        </p:nvCxnSpPr>
        <p:spPr>
          <a:xfrm flipV="1" rot="10800000">
            <a:off x="1258200" y="2169000"/>
            <a:ext cx="1715040" cy="1801080"/>
          </a:xfrm>
          <a:prstGeom prst="bentConnector3">
            <a:avLst>
              <a:gd name="adj1" fmla="val 113331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3"/>
            <a:endCxn id="508" idx="1"/>
          </p:cNvCxnSpPr>
          <p:nvPr/>
        </p:nvCxnSpPr>
        <p:spPr>
          <a:xfrm>
            <a:off x="4065480" y="3970080"/>
            <a:ext cx="93888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R-vacations: sample number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tual 2003 d-streams: 2 x 1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sum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ery sim-age person takes 1 trip to early 21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0,000 sim-age gen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verage sim-age population = 10 b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ields: 1.0 x 1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14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rtual 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: 1/50 chance of your life being r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340000" y="260280"/>
            <a:ext cx="4392720" cy="1224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nacing Simul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rther possibl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43280" y="1773360"/>
            <a:ext cx="3384360" cy="1224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AL REAL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95280" y="3573360"/>
            <a:ext cx="273672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enacing S-si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infin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24360" y="3645000"/>
            <a:ext cx="288000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enacing H-si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infin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514" idx="1"/>
            <a:endCxn id="515" idx="0"/>
          </p:cNvCxnSpPr>
          <p:nvPr/>
        </p:nvCxnSpPr>
        <p:spPr>
          <a:xfrm flipV="1" rot="10800000">
            <a:off x="1762920" y="2386080"/>
            <a:ext cx="1080360" cy="1187640"/>
          </a:xfrm>
          <a:prstGeom prst="curvedConnector2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18" name=""/>
          <p:cNvCxnSpPr>
            <a:stCxn id="514" idx="3"/>
            <a:endCxn id="516" idx="0"/>
          </p:cNvCxnSpPr>
          <p:nvPr/>
        </p:nvCxnSpPr>
        <p:spPr>
          <a:xfrm>
            <a:off x="6227640" y="2385720"/>
            <a:ext cx="937440" cy="1259640"/>
          </a:xfrm>
          <a:prstGeom prst="curvedConnector2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19" name=""/>
          <p:cNvSpPr/>
          <p:nvPr/>
        </p:nvSpPr>
        <p:spPr>
          <a:xfrm>
            <a:off x="3059280" y="5229360"/>
            <a:ext cx="3384360" cy="1224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wis, Tegma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0" name=""/>
          <p:cNvCxnSpPr>
            <a:stCxn id="519" idx="0"/>
            <a:endCxn id="514" idx="2"/>
          </p:cNvCxnSpPr>
          <p:nvPr/>
        </p:nvCxnSpPr>
        <p:spPr>
          <a:xfrm flipV="1" rot="16200000">
            <a:off x="3526920" y="4005000"/>
            <a:ext cx="2232720" cy="216360"/>
          </a:xfrm>
          <a:prstGeom prst="bentConnector3">
            <a:avLst>
              <a:gd name="adj1" fmla="val 4999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843280" y="189000"/>
            <a:ext cx="3384360" cy="122400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AL REAL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797200" y="2060640"/>
            <a:ext cx="5374800" cy="431640"/>
            <a:chOff x="2797200" y="2060640"/>
            <a:chExt cx="5374800" cy="431640"/>
          </a:xfrm>
        </p:grpSpPr>
        <p:sp>
          <p:nvSpPr>
            <p:cNvPr id="523" name=""/>
            <p:cNvSpPr/>
            <p:nvPr/>
          </p:nvSpPr>
          <p:spPr>
            <a:xfrm>
              <a:off x="279720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1468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4892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3180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6640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352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1812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01000" y="206064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797200" y="3213000"/>
            <a:ext cx="5374800" cy="432000"/>
            <a:chOff x="2797200" y="3213000"/>
            <a:chExt cx="5374800" cy="432000"/>
          </a:xfrm>
        </p:grpSpPr>
        <p:sp>
          <p:nvSpPr>
            <p:cNvPr id="532" name=""/>
            <p:cNvSpPr/>
            <p:nvPr/>
          </p:nvSpPr>
          <p:spPr>
            <a:xfrm>
              <a:off x="279720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1468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4892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3180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6640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8352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1812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01000" y="3213000"/>
              <a:ext cx="353880" cy="432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179280" y="1989000"/>
            <a:ext cx="18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al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9120" y="2924280"/>
            <a:ext cx="183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rtual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00816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1628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2260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3072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3884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54516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32456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032680" y="2637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348000" y="407664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% chance of virt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388360" y="177336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388360" y="292428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16360" y="5516640"/>
            <a:ext cx="338436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WORLD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ere do we sta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9280" y="1268280"/>
            <a:ext cx="62643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. Humankind will have a long and successful fu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9280" y="2349360"/>
            <a:ext cx="626436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. Technology will make realistic sims possible, and these will be created frequently, in varied fo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79280" y="4076640"/>
            <a:ext cx="62643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. You and I exist in the early 21</a:t>
            </a:r>
            <a:r>
              <a:rPr b="0" lang="en-GB" sz="28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79280" y="5373720"/>
            <a:ext cx="6264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. Modal Realism is tr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659640" y="1197000"/>
            <a:ext cx="144360" cy="2592360"/>
          </a:xfrm>
          <a:custGeom>
            <a:avLst/>
            <a:gdLst>
              <a:gd name="textAreaLeft" fmla="*/ 0 w 144360"/>
              <a:gd name="textAreaRight" fmla="*/ 52200 w 14436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416400">
            <a:off x="6732360" y="2420640"/>
            <a:ext cx="647640" cy="2232000"/>
          </a:xfrm>
          <a:custGeom>
            <a:avLst/>
            <a:gdLst>
              <a:gd name="textAreaLeft" fmla="*/ 86760 w 647640"/>
              <a:gd name="textAreaRight" fmla="*/ 560880 w 647640"/>
              <a:gd name="textAreaTop" fmla="*/ 468000 h 2232000"/>
              <a:gd name="textAreaBottom" fmla="*/ 15120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0" stAng="-5400000" swAng="5400000"/>
                <a:lnTo>
                  <a:pt x="21600" y="10100"/>
                </a:lnTo>
                <a:arcTo wR="21600" hR="9060" stAng="0" swAng="2578741"/>
                <a:lnTo>
                  <a:pt x="8866" y="20802"/>
                </a:lnTo>
                <a:lnTo>
                  <a:pt x="0" y="18640"/>
                </a:lnTo>
                <a:lnTo>
                  <a:pt x="8866" y="14882"/>
                </a:lnTo>
                <a:lnTo>
                  <a:pt x="8866" y="17322"/>
                </a:lnTo>
                <a:arcTo wR="21600" hR="9060" stAng="2578741" swAng="-2495859"/>
                <a:lnTo>
                  <a:pt x="21564" y="9580"/>
                </a:lnTo>
                <a:arcTo wR="21600" hR="9060" stAng="-82881" swAng="-5317119"/>
                <a:close/>
              </a:path>
              <a:path fill="darkenLess" w="21600" h="21600">
                <a:moveTo>
                  <a:pt x="0" y="0"/>
                </a:moveTo>
                <a:arcTo wR="21600" hR="9060" stAng="-5400000" swAng="5400000"/>
                <a:lnTo>
                  <a:pt x="21600" y="10100"/>
                </a:lnTo>
                <a:arcTo wR="21600" hR="9060" stAng="0" swAng="-82881"/>
                <a:lnTo>
                  <a:pt x="21564" y="9580"/>
                </a:lnTo>
                <a:arcTo wR="21600" hR="9060" stAng="-82881" swAng="-5317119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88000" y="4652280"/>
            <a:ext cx="646200" cy="1152360"/>
          </a:xfrm>
          <a:custGeom>
            <a:avLst/>
            <a:gdLst>
              <a:gd name="textAreaLeft" fmla="*/ 86400 w 646200"/>
              <a:gd name="textAreaRight" fmla="*/ 559800 w 646200"/>
              <a:gd name="textAreaTop" fmla="*/ 215280 h 1152360"/>
              <a:gd name="textAreaBottom" fmla="*/ 80424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85" stAng="-5400000" swAng="5400000"/>
                <a:lnTo>
                  <a:pt x="21600" y="11040"/>
                </a:lnTo>
                <a:arcTo wR="21600" hR="8085" stAng="0" swAng="2313429"/>
                <a:lnTo>
                  <a:pt x="9181" y="20833"/>
                </a:lnTo>
                <a:lnTo>
                  <a:pt x="0" y="17647"/>
                </a:lnTo>
                <a:lnTo>
                  <a:pt x="9181" y="12926"/>
                </a:lnTo>
                <a:lnTo>
                  <a:pt x="9181" y="15402"/>
                </a:lnTo>
                <a:arcTo wR="21600" hR="8085" stAng="2313429" swAng="-2074634"/>
                <a:lnTo>
                  <a:pt x="21236" y="9562"/>
                </a:lnTo>
                <a:arcTo wR="21600" hR="8085" stAng="-238795" swAng="-5161205"/>
                <a:close/>
              </a:path>
              <a:path fill="darkenLess" w="21600" h="21600">
                <a:moveTo>
                  <a:pt x="0" y="0"/>
                </a:moveTo>
                <a:arcTo wR="21600" hR="8085" stAng="-5400000" swAng="5400000"/>
                <a:lnTo>
                  <a:pt x="21600" y="11040"/>
                </a:lnTo>
                <a:arcTo wR="21600" hR="8085" stAng="0" swAng="-238795"/>
                <a:lnTo>
                  <a:pt x="21236" y="9562"/>
                </a:lnTo>
                <a:arcTo wR="21600" hR="8085" stAng="-238795" swAng="-516120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451640" y="3068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380360" y="5013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 rot="10800000">
            <a:off x="2123640" y="2349000"/>
            <a:ext cx="2521080" cy="23130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&amp;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99564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924360" y="5373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08360" y="2276640"/>
            <a:ext cx="2808360" cy="24476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erie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ccur in 2003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0800000">
            <a:off x="5724000" y="2349000"/>
            <a:ext cx="2521080" cy="23749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17733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conf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4653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conf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4360" y="2349360"/>
            <a:ext cx="358560" cy="2230560"/>
          </a:xfrm>
          <a:prstGeom prst="upArrow">
            <a:avLst>
              <a:gd name="adj1" fmla="val 29278"/>
              <a:gd name="adj2" fmla="val 1334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843280" y="2349360"/>
            <a:ext cx="3384360" cy="1224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im Ar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mplica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03280" y="4724280"/>
            <a:ext cx="252108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istem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4000" y="1989000"/>
            <a:ext cx="180000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h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292720" y="4724280"/>
            <a:ext cx="2376360" cy="863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phys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6" name=""/>
          <p:cNvCxnSpPr>
            <a:stCxn id="572" idx="0"/>
            <a:endCxn id="577" idx="2"/>
          </p:cNvCxnSpPr>
          <p:nvPr/>
        </p:nvCxnSpPr>
        <p:spPr>
          <a:xfrm flipH="1" flipV="1" rot="5400000">
            <a:off x="5651280" y="296280"/>
            <a:ext cx="937080" cy="31690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72" idx="2"/>
            <a:endCxn id="573" idx="0"/>
          </p:cNvCxnSpPr>
          <p:nvPr/>
        </p:nvCxnSpPr>
        <p:spPr>
          <a:xfrm rot="5400000">
            <a:off x="3023640" y="3212640"/>
            <a:ext cx="1151640" cy="1872360"/>
          </a:xfrm>
          <a:prstGeom prst="bentConnector3">
            <a:avLst>
              <a:gd name="adj1" fmla="val 4990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9" name=""/>
          <p:cNvCxnSpPr>
            <a:stCxn id="572" idx="0"/>
            <a:endCxn id="574" idx="0"/>
          </p:cNvCxnSpPr>
          <p:nvPr/>
        </p:nvCxnSpPr>
        <p:spPr>
          <a:xfrm flipV="1" rot="16200000">
            <a:off x="2698920" y="512640"/>
            <a:ext cx="361080" cy="3312360"/>
          </a:xfrm>
          <a:prstGeom prst="bentConnector3">
            <a:avLst>
              <a:gd name="adj1" fmla="val 16337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80" name=""/>
          <p:cNvCxnSpPr>
            <a:stCxn id="572" idx="2"/>
            <a:endCxn id="575" idx="0"/>
          </p:cNvCxnSpPr>
          <p:nvPr/>
        </p:nvCxnSpPr>
        <p:spPr>
          <a:xfrm flipH="1" rot="16200000">
            <a:off x="4933080" y="3175200"/>
            <a:ext cx="1151640" cy="1946880"/>
          </a:xfrm>
          <a:prstGeom prst="bentConnector3">
            <a:avLst>
              <a:gd name="adj1" fmla="val 4990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6804000" y="476280"/>
            <a:ext cx="180036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619280" y="333360"/>
            <a:ext cx="2232000" cy="936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gma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2" name=""/>
          <p:cNvCxnSpPr>
            <a:stCxn id="572" idx="0"/>
            <a:endCxn id="581" idx="3"/>
          </p:cNvCxnSpPr>
          <p:nvPr/>
        </p:nvCxnSpPr>
        <p:spPr>
          <a:xfrm flipV="1" rot="16200000">
            <a:off x="3418920" y="1232640"/>
            <a:ext cx="1548360" cy="6850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cepticism: traditional respo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148360" y="1557360"/>
            <a:ext cx="237492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AT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1341360"/>
            <a:ext cx="2160720" cy="1368360"/>
          </a:xfrm>
          <a:prstGeom prst="rect">
            <a:avLst/>
          </a:prstGeom>
          <a:solidFill>
            <a:srgbClr val="ccff33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life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l!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348000" y="1773360"/>
            <a:ext cx="1655640" cy="360360"/>
          </a:xfrm>
          <a:prstGeom prst="leftRightArrow">
            <a:avLst>
              <a:gd name="adj1" fmla="val 50000"/>
              <a:gd name="adj2" fmla="val 9146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995640" y="2276640"/>
            <a:ext cx="505080" cy="1728720"/>
          </a:xfrm>
          <a:prstGeom prst="downArrow">
            <a:avLst>
              <a:gd name="adj1" fmla="val 50000"/>
              <a:gd name="adj2" fmla="val 855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987640" y="4437000"/>
            <a:ext cx="2449440" cy="144000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rn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warra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 Era Scepticism: menace of the virtual = very real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0920" y="1557360"/>
            <a:ext cx="468144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me: reality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argely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r experience sugg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hysical law, history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8360" y="3860640"/>
            <a:ext cx="345744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ificant prob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your life = vir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50920" y="3068640"/>
            <a:ext cx="433440" cy="574560"/>
          </a:xfrm>
          <a:prstGeom prst="downArrow">
            <a:avLst>
              <a:gd name="adj1" fmla="val 50000"/>
              <a:gd name="adj2" fmla="val 3314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211640" y="3357720"/>
            <a:ext cx="289080" cy="2304720"/>
          </a:xfrm>
          <a:custGeom>
            <a:avLst/>
            <a:gdLst>
              <a:gd name="textAreaLeft" fmla="*/ 0 w 289080"/>
              <a:gd name="textAreaRight" fmla="*/ 104400 w 289080"/>
              <a:gd name="textAreaTop" fmla="*/ 59760 h 2304720"/>
              <a:gd name="textAreaBottom" fmla="*/ 2244960 h 23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59280" y="3716280"/>
            <a:ext cx="3888000" cy="15562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e a few VR-trips: threat will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fee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eal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Argument (one for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ulation Dominance is 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 reason to thin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uman lives are less likely to be simulated than other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rly C21-type human lives are less likely to be simulated than other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: it is probable that our lives are simul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Objection: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1844640"/>
            <a:ext cx="3456000" cy="144000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-sceptic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self-underm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84720" y="3645000"/>
            <a:ext cx="3672000" cy="180000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 thre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8" name=""/>
          <p:cNvCxnSpPr>
            <a:stCxn id="596" idx="3"/>
            <a:endCxn id="597" idx="0"/>
          </p:cNvCxnSpPr>
          <p:nvPr/>
        </p:nvCxnSpPr>
        <p:spPr>
          <a:xfrm>
            <a:off x="4067280" y="2565000"/>
            <a:ext cx="2054880" cy="1080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4067280" y="549360"/>
            <a:ext cx="3456000" cy="143964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all the bas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e of rea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35280" y="4221000"/>
            <a:ext cx="3671640" cy="1800360"/>
          </a:xfrm>
          <a:prstGeom prst="rect">
            <a:avLst/>
          </a:prstGeom>
          <a:solidFill>
            <a:srgbClr val="96969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see h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ats itself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1" name=""/>
          <p:cNvCxnSpPr>
            <a:stCxn id="599" idx="2"/>
            <a:endCxn id="600" idx="0"/>
          </p:cNvCxnSpPr>
          <p:nvPr/>
        </p:nvCxnSpPr>
        <p:spPr>
          <a:xfrm rot="5400000">
            <a:off x="3617280" y="2043000"/>
            <a:ext cx="2232720" cy="2124720"/>
          </a:xfrm>
          <a:prstGeom prst="bentConnector3">
            <a:avLst>
              <a:gd name="adj1" fmla="val 49991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276720" y="260280"/>
            <a:ext cx="2232000" cy="15130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lif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virt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476360" y="2349360"/>
            <a:ext cx="2232000" cy="1079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gu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76720" y="4365720"/>
            <a:ext cx="2232000" cy="2158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od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I 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932360" y="2349360"/>
            <a:ext cx="2952720" cy="1079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orld h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erties F, G 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6" name=""/>
          <p:cNvCxnSpPr>
            <a:stCxn id="602" idx="2"/>
            <a:endCxn id="603" idx="0"/>
          </p:cNvCxnSpPr>
          <p:nvPr/>
        </p:nvCxnSpPr>
        <p:spPr>
          <a:xfrm rot="5400000">
            <a:off x="3204000" y="1161000"/>
            <a:ext cx="576360" cy="1801080"/>
          </a:xfrm>
          <a:prstGeom prst="bentConnector3">
            <a:avLst>
              <a:gd name="adj1" fmla="val 4987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7" name=""/>
          <p:cNvCxnSpPr>
            <a:stCxn id="602" idx="2"/>
            <a:endCxn id="605" idx="0"/>
          </p:cNvCxnSpPr>
          <p:nvPr/>
        </p:nvCxnSpPr>
        <p:spPr>
          <a:xfrm flipH="1" rot="16200000">
            <a:off x="5112720" y="1053000"/>
            <a:ext cx="576360" cy="2016720"/>
          </a:xfrm>
          <a:prstGeom prst="bentConnector3">
            <a:avLst>
              <a:gd name="adj1" fmla="val 4987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603" idx="2"/>
            <a:endCxn id="604" idx="0"/>
          </p:cNvCxnSpPr>
          <p:nvPr/>
        </p:nvCxnSpPr>
        <p:spPr>
          <a:xfrm flipH="1" rot="16200000">
            <a:off x="3023280" y="2997000"/>
            <a:ext cx="937440" cy="180108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9" name=""/>
          <p:cNvCxnSpPr>
            <a:stCxn id="605" idx="2"/>
            <a:endCxn id="604" idx="0"/>
          </p:cNvCxnSpPr>
          <p:nvPr/>
        </p:nvCxnSpPr>
        <p:spPr>
          <a:xfrm rot="5400000">
            <a:off x="4931640" y="2889360"/>
            <a:ext cx="937440" cy="201672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276720" y="260280"/>
            <a:ext cx="2232000" cy="15130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lif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virt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476360" y="2349360"/>
            <a:ext cx="2232000" cy="1079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gu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76720" y="4365720"/>
            <a:ext cx="2232000" cy="2158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od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I 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932360" y="2349360"/>
            <a:ext cx="2952720" cy="1079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orld h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erties F,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4" name=""/>
          <p:cNvCxnSpPr>
            <a:stCxn id="610" idx="2"/>
            <a:endCxn id="611" idx="0"/>
          </p:cNvCxnSpPr>
          <p:nvPr/>
        </p:nvCxnSpPr>
        <p:spPr>
          <a:xfrm rot="5400000">
            <a:off x="3204000" y="1161000"/>
            <a:ext cx="576360" cy="1801080"/>
          </a:xfrm>
          <a:prstGeom prst="bentConnector3">
            <a:avLst>
              <a:gd name="adj1" fmla="val 4987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10" idx="2"/>
            <a:endCxn id="613" idx="0"/>
          </p:cNvCxnSpPr>
          <p:nvPr/>
        </p:nvCxnSpPr>
        <p:spPr>
          <a:xfrm flipH="1" rot="16200000">
            <a:off x="5112720" y="1053000"/>
            <a:ext cx="576360" cy="2016720"/>
          </a:xfrm>
          <a:prstGeom prst="bentConnector3">
            <a:avLst>
              <a:gd name="adj1" fmla="val 4987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611" idx="2"/>
            <a:endCxn id="612" idx="0"/>
          </p:cNvCxnSpPr>
          <p:nvPr/>
        </p:nvCxnSpPr>
        <p:spPr>
          <a:xfrm flipH="1" rot="16200000">
            <a:off x="3023280" y="2997000"/>
            <a:ext cx="937440" cy="180108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7" name=""/>
          <p:cNvCxnSpPr>
            <a:stCxn id="613" idx="2"/>
            <a:endCxn id="612" idx="0"/>
          </p:cNvCxnSpPr>
          <p:nvPr/>
        </p:nvCxnSpPr>
        <p:spPr>
          <a:xfrm rot="5400000">
            <a:off x="4931640" y="2889360"/>
            <a:ext cx="937440" cy="201672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 flipV="1" rot="16200000">
            <a:off x="5471280" y="3679560"/>
            <a:ext cx="2305080" cy="1944720"/>
          </a:xfrm>
          <a:custGeom>
            <a:avLst/>
            <a:gdLst>
              <a:gd name="textAreaLeft" fmla="*/ 0 w 2305080"/>
              <a:gd name="textAreaRight" fmla="*/ 2305080 w 2305080"/>
              <a:gd name="textAreaTop" fmla="*/ 360 h 1944720"/>
              <a:gd name="textAreaBottom" fmla="*/ 19454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732720" y="450864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rtain beliefs about the character of the world lead you to believe that it is likely that you are living in a sim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: the latter belief undermines the former belief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you believe you inhabit a sim, why believe your experience is a reliable guide to how things really a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r grounds for assigning a high probability to the sim hypothesis are no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68360" y="0"/>
            <a:ext cx="82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Steps to a vicious, epistemically unstable, loop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you no longer have reason to believe you are living in a sim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conclude: things are much as they se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: if things are much as they seem, there is a good chance that you are living in a simulation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the loop repeats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68360" y="33336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Loop concluded and relaunched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835280" y="0"/>
            <a:ext cx="5472000" cy="12952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response: entrench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835280" y="2060640"/>
            <a:ext cx="5472000" cy="19447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one who initially as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probability to s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ypothesis is always retu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ir initial s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835280" y="4653000"/>
            <a:ext cx="5472000" cy="15127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: rejecting the Sim Arg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turning to reality’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not a stable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427640" y="4076640"/>
            <a:ext cx="5745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2268360" y="333360"/>
            <a:ext cx="4249800" cy="12952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blem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&amp; puzzling) symme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2421000"/>
            <a:ext cx="3598560" cy="11523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jecting Sim A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a stable op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859280" y="2421000"/>
            <a:ext cx="3816360" cy="11541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ing Sim Ar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a stable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1" name=""/>
          <p:cNvCxnSpPr>
            <a:stCxn id="628" idx="2"/>
            <a:endCxn id="629" idx="0"/>
          </p:cNvCxnSpPr>
          <p:nvPr/>
        </p:nvCxnSpPr>
        <p:spPr>
          <a:xfrm rot="5400000">
            <a:off x="2862720" y="889560"/>
            <a:ext cx="793080" cy="2270520"/>
          </a:xfrm>
          <a:prstGeom prst="bentConnector3">
            <a:avLst>
              <a:gd name="adj1" fmla="val 4986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2" name=""/>
          <p:cNvCxnSpPr>
            <a:stCxn id="628" idx="2"/>
            <a:endCxn id="630" idx="0"/>
          </p:cNvCxnSpPr>
          <p:nvPr/>
        </p:nvCxnSpPr>
        <p:spPr>
          <a:xfrm flipH="1" rot="16200000">
            <a:off x="5183640" y="837720"/>
            <a:ext cx="793080" cy="2374200"/>
          </a:xfrm>
          <a:prstGeom prst="bentConnector3">
            <a:avLst>
              <a:gd name="adj1" fmla="val 4986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0" y="2133720"/>
            <a:ext cx="3598920" cy="11523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jecting Sim A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a stable op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327640" y="2133720"/>
            <a:ext cx="3816360" cy="115416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ing Sim Ar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not a stable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5" name=""/>
          <p:cNvCxnSpPr>
            <a:stCxn id="636" idx="2"/>
            <a:endCxn id="633" idx="0"/>
          </p:cNvCxnSpPr>
          <p:nvPr/>
        </p:nvCxnSpPr>
        <p:spPr>
          <a:xfrm rot="5400000">
            <a:off x="2680920" y="387360"/>
            <a:ext cx="866160" cy="2627640"/>
          </a:xfrm>
          <a:prstGeom prst="bentConnector3">
            <a:avLst>
              <a:gd name="adj1" fmla="val 4989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36" idx="2"/>
            <a:endCxn id="634" idx="0"/>
          </p:cNvCxnSpPr>
          <p:nvPr/>
        </p:nvCxnSpPr>
        <p:spPr>
          <a:xfrm flipH="1" rot="16200000">
            <a:off x="5398200" y="296640"/>
            <a:ext cx="866160" cy="2809080"/>
          </a:xfrm>
          <a:prstGeom prst="bentConnector3">
            <a:avLst>
              <a:gd name="adj1" fmla="val 4989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2124000" y="4005360"/>
            <a:ext cx="4249800" cy="19890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 Sim Ar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ve one in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istemically st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tuatio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556000" y="260280"/>
            <a:ext cx="3743280" cy="10080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Question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77080" y="5589720"/>
            <a:ext cx="1979640" cy="93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yb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0" name=""/>
          <p:cNvCxnSpPr>
            <a:stCxn id="638" idx="3"/>
            <a:endCxn id="639" idx="0"/>
          </p:cNvCxnSpPr>
          <p:nvPr/>
        </p:nvCxnSpPr>
        <p:spPr>
          <a:xfrm>
            <a:off x="6373800" y="5000760"/>
            <a:ext cx="1494720" cy="5896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41" name=""/>
          <p:cNvCxnSpPr>
            <a:stCxn id="636" idx="2"/>
            <a:endCxn id="638" idx="0"/>
          </p:cNvCxnSpPr>
          <p:nvPr/>
        </p:nvCxnSpPr>
        <p:spPr>
          <a:xfrm rot="5400000">
            <a:off x="2970000" y="2547720"/>
            <a:ext cx="2737800" cy="1782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187280" y="1484280"/>
            <a:ext cx="7343640" cy="1150920"/>
            <a:chOff x="1187280" y="1484280"/>
            <a:chExt cx="7343640" cy="1150920"/>
          </a:xfrm>
        </p:grpSpPr>
        <p:sp>
          <p:nvSpPr>
            <p:cNvPr id="644" name=""/>
            <p:cNvSpPr/>
            <p:nvPr/>
          </p:nvSpPr>
          <p:spPr>
            <a:xfrm>
              <a:off x="1187280" y="1555560"/>
              <a:ext cx="2232000" cy="10796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imulation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19640" y="1484280"/>
              <a:ext cx="3311280" cy="1079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isrepresent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35280" y="1771560"/>
              <a:ext cx="1295280" cy="6476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611280" y="333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 suspect equation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0920" y="3789360"/>
            <a:ext cx="3457440" cy="151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m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788000" y="3789360"/>
            <a:ext cx="4032000" cy="1511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turali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ypo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403280" y="5589720"/>
            <a:ext cx="108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Y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227640" y="5516640"/>
            <a:ext cx="108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9640" y="1341360"/>
            <a:ext cx="8136000" cy="14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53" name=""/>
          <p:cNvCxnSpPr>
            <a:stCxn id="652" idx="2"/>
            <a:endCxn id="648" idx="0"/>
          </p:cNvCxnSpPr>
          <p:nvPr/>
        </p:nvCxnSpPr>
        <p:spPr>
          <a:xfrm rot="5400000">
            <a:off x="2799000" y="1980000"/>
            <a:ext cx="989280" cy="2629440"/>
          </a:xfrm>
          <a:prstGeom prst="bentConnector3">
            <a:avLst>
              <a:gd name="adj1" fmla="val 4896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52" idx="2"/>
            <a:endCxn id="649" idx="0"/>
          </p:cNvCxnSpPr>
          <p:nvPr/>
        </p:nvCxnSpPr>
        <p:spPr>
          <a:xfrm flipH="1" rot="16200000">
            <a:off x="5210640" y="2196360"/>
            <a:ext cx="989280" cy="2196000"/>
          </a:xfrm>
          <a:prstGeom prst="bentConnector3">
            <a:avLst>
              <a:gd name="adj1" fmla="val 4896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he Simulation Argument (Bostrom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 u="sng">
                <a:solidFill>
                  <a:srgbClr val="ffffff"/>
                </a:solidFill>
                <a:uFillTx/>
                <a:latin typeface="Arial"/>
              </a:rPr>
              <a:t>Simulation Hypothesis: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for every non-virtual early 21</a:t>
            </a:r>
            <a:r>
              <a:rPr b="0" lang="en-GB" sz="3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century human life there are many subjectively indistinguishable (or broadly similar) virtual liv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805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00720" y="5877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7164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656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256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892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528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8036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56720" y="4149720"/>
            <a:ext cx="360360" cy="433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11280" y="4797360"/>
            <a:ext cx="7850160" cy="576360"/>
            <a:chOff x="611280" y="4797360"/>
            <a:chExt cx="7850160" cy="576360"/>
          </a:xfrm>
        </p:grpSpPr>
        <p:sp>
          <p:nvSpPr>
            <p:cNvPr id="240" name=""/>
            <p:cNvSpPr/>
            <p:nvPr/>
          </p:nvSpPr>
          <p:spPr>
            <a:xfrm>
              <a:off x="611280" y="4797360"/>
              <a:ext cx="504720" cy="57636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2698920" y="4797360"/>
              <a:ext cx="5762520" cy="576360"/>
              <a:chOff x="2698920" y="4797360"/>
              <a:chExt cx="5762520" cy="5763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9892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6712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45140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82840" y="4797360"/>
                <a:ext cx="5050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3568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19600" y="4797360"/>
                <a:ext cx="5050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8816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37244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20388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956720" y="4797360"/>
                <a:ext cx="50472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684360" y="3429000"/>
            <a:ext cx="7560720" cy="431640"/>
            <a:chOff x="684360" y="3429000"/>
            <a:chExt cx="7560720" cy="431640"/>
          </a:xfrm>
        </p:grpSpPr>
        <p:sp>
          <p:nvSpPr>
            <p:cNvPr id="253" name=""/>
            <p:cNvSpPr/>
            <p:nvPr/>
          </p:nvSpPr>
          <p:spPr>
            <a:xfrm>
              <a:off x="68436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7308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352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6404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3360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9412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2456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8508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54640" y="3429000"/>
              <a:ext cx="36000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Realism: varia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ull: simulation is perfect duplication of actual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al: simulation is accurate in some re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-realism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ulations with high S-realism resemble the actual world in ways relevant to the assessment of the Simulation Hypothesis (i.e. that there are high odds that your life is virtu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ws of nature, technological possibilities, social trend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Modest claim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t least 75% of current fictions (films, novels, computer games) have high S-re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Modest prediction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t least 50% of future fictions will have high S-re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6012000" y="260280"/>
            <a:ext cx="2901960" cy="1449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% ch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liv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50920" y="260280"/>
            <a:ext cx="3808440" cy="1440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orld is broadly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eems + low od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my life is vir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1" name=""/>
          <p:cNvCxnSpPr>
            <a:stCxn id="660" idx="3"/>
            <a:endCxn id="659" idx="1"/>
          </p:cNvCxnSpPr>
          <p:nvPr/>
        </p:nvCxnSpPr>
        <p:spPr>
          <a:xfrm>
            <a:off x="4059360" y="980640"/>
            <a:ext cx="1953000" cy="5400"/>
          </a:xfrm>
          <a:prstGeom prst="bentConnector3">
            <a:avLst>
              <a:gd name="adj1" fmla="val 5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2" name=""/>
          <p:cNvSpPr/>
          <p:nvPr/>
        </p:nvSpPr>
        <p:spPr>
          <a:xfrm>
            <a:off x="5292720" y="2637000"/>
            <a:ext cx="3564000" cy="1152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s wi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S-realism= 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635280" y="4581360"/>
            <a:ext cx="2757600" cy="1306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% ch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am liv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4" name=""/>
          <p:cNvCxnSpPr>
            <a:stCxn id="662" idx="2"/>
            <a:endCxn id="663" idx="3"/>
          </p:cNvCxnSpPr>
          <p:nvPr/>
        </p:nvCxnSpPr>
        <p:spPr>
          <a:xfrm rot="5400000">
            <a:off x="6010920" y="4170960"/>
            <a:ext cx="1446840" cy="682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5" name=""/>
          <p:cNvCxnSpPr>
            <a:stCxn id="659" idx="2"/>
            <a:endCxn id="662" idx="0"/>
          </p:cNvCxnSpPr>
          <p:nvPr/>
        </p:nvCxnSpPr>
        <p:spPr>
          <a:xfrm rot="5400000">
            <a:off x="6804720" y="1979640"/>
            <a:ext cx="928080" cy="388080"/>
          </a:xfrm>
          <a:prstGeom prst="bentConnector3">
            <a:avLst>
              <a:gd name="adj1" fmla="val 4998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6" name=""/>
          <p:cNvSpPr/>
          <p:nvPr/>
        </p:nvSpPr>
        <p:spPr>
          <a:xfrm>
            <a:off x="1116000" y="627840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eps to an epistemically stable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2492280"/>
            <a:ext cx="4248000" cy="1511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orld is broadly as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ems + good ch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t my life is a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333360"/>
            <a:ext cx="1008000" cy="1297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9" name=""/>
          <p:cNvCxnSpPr>
            <a:stCxn id="663" idx="1"/>
            <a:endCxn id="667" idx="2"/>
          </p:cNvCxnSpPr>
          <p:nvPr/>
        </p:nvCxnSpPr>
        <p:spPr>
          <a:xfrm rot="10800000">
            <a:off x="2123280" y="4003560"/>
            <a:ext cx="1512000" cy="12322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0" name=""/>
          <p:cNvCxnSpPr>
            <a:stCxn id="667" idx="3"/>
            <a:endCxn id="662" idx="1"/>
          </p:cNvCxnSpPr>
          <p:nvPr/>
        </p:nvCxnSpPr>
        <p:spPr>
          <a:xfrm flipV="1">
            <a:off x="4248000" y="3212280"/>
            <a:ext cx="1045440" cy="35640"/>
          </a:xfrm>
          <a:prstGeom prst="bentConnector3">
            <a:avLst>
              <a:gd name="adj1" fmla="val 49982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) the world is broadly as I believe it to be (physical laws, history, technological tre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b) the probability that I am living in a simulation is quite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ai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two beliefs are consistent, provided that under (a) you believe that most future simulations are likely to supply a broadly accurate picture of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oving swiftly on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755640" y="26028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ology: Problem of Ev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971640" y="3716280"/>
            <a:ext cx="7032240" cy="431640"/>
            <a:chOff x="971640" y="3716280"/>
            <a:chExt cx="7032240" cy="431640"/>
          </a:xfrm>
        </p:grpSpPr>
        <p:sp>
          <p:nvSpPr>
            <p:cNvPr id="675" name=""/>
            <p:cNvSpPr/>
            <p:nvPr/>
          </p:nvSpPr>
          <p:spPr>
            <a:xfrm>
              <a:off x="245412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97160" y="3716280"/>
              <a:ext cx="35352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81440" y="3716280"/>
              <a:ext cx="35352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3840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2268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65720" y="3716280"/>
              <a:ext cx="35352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5000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0696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12880" y="3716280"/>
              <a:ext cx="35352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71640" y="3716280"/>
              <a:ext cx="353880" cy="431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71640" y="1052640"/>
            <a:ext cx="6985080" cy="2471760"/>
          </a:xfrm>
          <a:custGeom>
            <a:avLst/>
            <a:gdLst/>
            <a:ahLst/>
            <a:rect l="l" t="t" r="r" b="b"/>
            <a:pathLst>
              <a:path w="4400" h="1557">
                <a:moveTo>
                  <a:pt x="0" y="1542"/>
                </a:moveTo>
                <a:cubicBezTo>
                  <a:pt x="340" y="1549"/>
                  <a:pt x="681" y="1557"/>
                  <a:pt x="953" y="1542"/>
                </a:cubicBezTo>
                <a:cubicBezTo>
                  <a:pt x="1225" y="1527"/>
                  <a:pt x="1338" y="1527"/>
                  <a:pt x="1633" y="1452"/>
                </a:cubicBezTo>
                <a:cubicBezTo>
                  <a:pt x="1928" y="1377"/>
                  <a:pt x="2367" y="1255"/>
                  <a:pt x="2722" y="1089"/>
                </a:cubicBezTo>
                <a:cubicBezTo>
                  <a:pt x="3077" y="923"/>
                  <a:pt x="3485" y="635"/>
                  <a:pt x="3765" y="454"/>
                </a:cubicBezTo>
                <a:cubicBezTo>
                  <a:pt x="4045" y="273"/>
                  <a:pt x="4222" y="136"/>
                  <a:pt x="4400" y="0"/>
                </a:cubicBezTo>
              </a:path>
            </a:pathLst>
          </a:custGeom>
          <a:noFill/>
          <a:ln w="7632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26920" y="429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476360" y="170028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ribution of ‘pointless’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rot="5400000">
            <a:off x="4481640" y="1357920"/>
            <a:ext cx="827280" cy="6553080"/>
          </a:xfrm>
          <a:custGeom>
            <a:avLst/>
            <a:gdLst>
              <a:gd name="textAreaLeft" fmla="*/ 0 w 827280"/>
              <a:gd name="textAreaRight" fmla="*/ 298800 w 827280"/>
              <a:gd name="textAreaTop" fmla="*/ 170640 h 6553080"/>
              <a:gd name="textAreaBottom" fmla="*/ 6382440 h 655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492360" y="5157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rtual worlds /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763640" y="602136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evil = directly due to humank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etaphysics: varieties of V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43280" y="981000"/>
            <a:ext cx="3166920" cy="576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-sims v S-si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68360" y="4869000"/>
            <a:ext cx="3527280" cy="86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iginal v Repla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11280" y="2205000"/>
            <a:ext cx="3240000" cy="576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e v Pas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68360" y="3500280"/>
            <a:ext cx="3672000" cy="576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unal v.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03640" y="1989000"/>
            <a:ext cx="41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nomous v. Programmed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219640" y="3284640"/>
            <a:ext cx="34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s are real (active) or merely appar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292720" y="4869000"/>
            <a:ext cx="34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r own psychology, or another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468360" y="549360"/>
            <a:ext cx="56894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– Individual – Original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– Individual – Replacement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68360" y="1484280"/>
            <a:ext cx="56894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– Communal – Original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– Communal – Replacement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95280" y="3573360"/>
            <a:ext cx="583236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– Communal – Original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– Communal – Replacement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8360" y="2637000"/>
            <a:ext cx="568944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– Individual – Original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– Individual – Replacement P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372360" y="404640"/>
            <a:ext cx="360360" cy="4248360"/>
          </a:xfrm>
          <a:custGeom>
            <a:avLst/>
            <a:gdLst>
              <a:gd name="textAreaLeft" fmla="*/ 0 w 360360"/>
              <a:gd name="textAreaRight" fmla="*/ 129960 w 36036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74"/>
                </a:lnTo>
                <a:cubicBezTo>
                  <a:pt x="10800" y="9674"/>
                  <a:pt x="16200" y="10574"/>
                  <a:pt x="21600" y="10574"/>
                </a:cubicBezTo>
                <a:cubicBezTo>
                  <a:pt x="16200" y="10574"/>
                  <a:pt x="10800" y="11474"/>
                  <a:pt x="10800" y="123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164360" y="2205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 or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948360" y="400536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16 m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524720" y="292428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9640" y="573408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atrix’ = active, communal, origina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ulation Scenarios as Metaphysical Hypotheses, not Sceptical Hypotheses (Chalmers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we were simulants, most of our beliefs about our world would still be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: our world would have a different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natu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han we commonly belie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 physical things are constituted by computationa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plausibility for COMMUNAL s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5689440" cy="8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agmatic Issues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042920" y="1773360"/>
            <a:ext cx="2592360" cy="1225440"/>
          </a:xfrm>
          <a:prstGeom prst="wedgeRectCallout">
            <a:avLst>
              <a:gd name="adj1" fmla="val 53000"/>
              <a:gd name="adj2" fmla="val 6878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uld I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t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724360" y="1557360"/>
            <a:ext cx="2592720" cy="1225440"/>
          </a:xfrm>
          <a:prstGeom prst="wedgeRectCallout">
            <a:avLst>
              <a:gd name="adj1" fmla="val -113379"/>
              <a:gd name="adj2" fmla="val 9170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uld I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pres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68360" y="4365720"/>
            <a:ext cx="3600360" cy="1800000"/>
          </a:xfrm>
          <a:prstGeom prst="wedgeRoundRectCallout">
            <a:avLst>
              <a:gd name="adj1" fmla="val 40564"/>
              <a:gd name="adj2" fmla="val -98675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 life is boring: does this re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od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59280" y="3789360"/>
            <a:ext cx="4032360" cy="2376360"/>
          </a:xfrm>
          <a:prstGeom prst="wedgeRoundRectCallout">
            <a:avLst>
              <a:gd name="adj1" fmla="val -68462"/>
              <a:gd name="adj2" fmla="val -60087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 life is unusually interesting: does this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od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Argument: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r conviction that your life is non-virtual is no better founded than anybody else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: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he Simulation Hypothesis is true, the odds of your life being non-virtual are low (e.g. 1 in 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The price of fame: high sim od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771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But my life is too dull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900000" y="1076400"/>
            <a:ext cx="77043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o life is too dull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753080" cy="356688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395280" y="40464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‘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The Sims’ = bestselling computer game for the past 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hree ye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3440" cy="1139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imulation Eth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68360" y="1916280"/>
            <a:ext cx="3240000" cy="86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eation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1916280"/>
            <a:ext cx="3816360" cy="86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intenance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195640" y="4292640"/>
            <a:ext cx="583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403280" y="3357720"/>
            <a:ext cx="6480360" cy="146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Question: might ethical scruples diminish the menace posed by the Simulation Argum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8" name=""/>
          <p:cNvCxnSpPr>
            <a:stCxn id="724" idx="1"/>
            <a:endCxn id="727" idx="1"/>
          </p:cNvCxnSpPr>
          <p:nvPr/>
        </p:nvCxnSpPr>
        <p:spPr>
          <a:xfrm flipH="1" flipV="1" rot="10800000">
            <a:off x="468000" y="2347560"/>
            <a:ext cx="916560" cy="1761120"/>
          </a:xfrm>
          <a:prstGeom prst="bentConnector3">
            <a:avLst>
              <a:gd name="adj1" fmla="val -2495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250920" y="836640"/>
            <a:ext cx="3456000" cy="265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 subjects are being deceived about their real condition.  It’s wrong to deceive in this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24000" y="260280"/>
            <a:ext cx="3311280" cy="504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eption Obj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932360" y="620640"/>
            <a:ext cx="3816360" cy="1513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the wro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weigh the g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exist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211640" y="4149720"/>
            <a:ext cx="4248000" cy="1655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-sims, VR-va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eption = tempora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el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mpos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3" name=""/>
          <p:cNvCxnSpPr>
            <a:stCxn id="729" idx="3"/>
            <a:endCxn id="731" idx="1"/>
          </p:cNvCxnSpPr>
          <p:nvPr/>
        </p:nvCxnSpPr>
        <p:spPr>
          <a:xfrm flipV="1">
            <a:off x="3720600" y="1377720"/>
            <a:ext cx="1212120" cy="800640"/>
          </a:xfrm>
          <a:prstGeom prst="bentConnector3">
            <a:avLst>
              <a:gd name="adj1" fmla="val 4940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729" idx="2"/>
            <a:endCxn id="732" idx="1"/>
          </p:cNvCxnSpPr>
          <p:nvPr/>
        </p:nvCxnSpPr>
        <p:spPr>
          <a:xfrm flipH="1" rot="16200000">
            <a:off x="2373480" y="3139200"/>
            <a:ext cx="1445040" cy="2232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324000" y="189000"/>
            <a:ext cx="3384360" cy="72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f-Interest Obj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24000" y="981000"/>
            <a:ext cx="3456000" cy="180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ture generations will restrict sims to secure their own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292720" y="476280"/>
            <a:ext cx="3565440" cy="100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’t guarante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y will be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003640" y="1844640"/>
            <a:ext cx="3889440" cy="1152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posing forces: escapi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tainment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187280" y="4005360"/>
            <a:ext cx="3889440" cy="1152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lization: innoc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be recapt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0" name=""/>
          <p:cNvCxnSpPr>
            <a:stCxn id="736" idx="3"/>
            <a:endCxn id="737" idx="1"/>
          </p:cNvCxnSpPr>
          <p:nvPr/>
        </p:nvCxnSpPr>
        <p:spPr>
          <a:xfrm flipV="1">
            <a:off x="3793680" y="980640"/>
            <a:ext cx="1499400" cy="915120"/>
          </a:xfrm>
          <a:prstGeom prst="bentConnector3">
            <a:avLst>
              <a:gd name="adj1" fmla="val 4947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>
            <a:stCxn id="736" idx="3"/>
            <a:endCxn id="738" idx="1"/>
          </p:cNvCxnSpPr>
          <p:nvPr/>
        </p:nvCxnSpPr>
        <p:spPr>
          <a:xfrm>
            <a:off x="3794040" y="1895400"/>
            <a:ext cx="1210320" cy="526320"/>
          </a:xfrm>
          <a:prstGeom prst="bentConnector3">
            <a:avLst>
              <a:gd name="adj1" fmla="val 4933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736" idx="2"/>
            <a:endCxn id="739" idx="0"/>
          </p:cNvCxnSpPr>
          <p:nvPr/>
        </p:nvCxnSpPr>
        <p:spPr>
          <a:xfrm flipH="1" rot="16200000">
            <a:off x="2001600" y="2874600"/>
            <a:ext cx="1181880" cy="1080000"/>
          </a:xfrm>
          <a:prstGeom prst="bentConnector3">
            <a:avLst>
              <a:gd name="adj1" fmla="val 49299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3" name=""/>
          <p:cNvSpPr/>
          <p:nvPr/>
        </p:nvSpPr>
        <p:spPr>
          <a:xfrm>
            <a:off x="5724360" y="4869000"/>
            <a:ext cx="3024360" cy="115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us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4" name=""/>
          <p:cNvCxnSpPr>
            <a:stCxn id="739" idx="2"/>
            <a:endCxn id="743" idx="1"/>
          </p:cNvCxnSpPr>
          <p:nvPr/>
        </p:nvCxnSpPr>
        <p:spPr>
          <a:xfrm flipH="1" rot="16200000">
            <a:off x="4283280" y="4005000"/>
            <a:ext cx="288000" cy="2592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 innocence: can’t be regained, but </a:t>
            </a:r>
            <a:r>
              <a:rPr b="0" i="1" lang="en-GB" sz="4000" spc="-1" strike="noStrike">
                <a:solidFill>
                  <a:srgbClr val="ccecff"/>
                </a:solidFill>
                <a:latin typeface="Arial"/>
              </a:rPr>
              <a:t>can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 be simulat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95280" y="472428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8388360" y="1844640"/>
            <a:ext cx="0" cy="28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619280" y="429264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72000" y="472428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5400000">
            <a:off x="5399640" y="2672280"/>
            <a:ext cx="360360" cy="5473800"/>
          </a:xfrm>
          <a:custGeom>
            <a:avLst/>
            <a:gdLst>
              <a:gd name="textAreaLeft" fmla="*/ 0 w 360360"/>
              <a:gd name="textAreaRight" fmla="*/ 129960 w 360360"/>
              <a:gd name="textAreaTop" fmla="*/ 142560 h 5473800"/>
              <a:gd name="textAreaBottom" fmla="*/ 5331240 h 547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79280" y="479736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oc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332000" y="5445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372360" y="479736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00,000 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050920" y="486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2268360" y="486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443640" y="1844640"/>
            <a:ext cx="1835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o. of simulations/visi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11280" y="1844640"/>
            <a:ext cx="7561080" cy="2711520"/>
          </a:xfrm>
          <a:custGeom>
            <a:avLst/>
            <a:gdLst/>
            <a:ahLst/>
            <a:rect l="l" t="t" r="r" b="b"/>
            <a:pathLst>
              <a:path w="4763" h="1708">
                <a:moveTo>
                  <a:pt x="0" y="408"/>
                </a:moveTo>
                <a:cubicBezTo>
                  <a:pt x="64" y="306"/>
                  <a:pt x="128" y="204"/>
                  <a:pt x="272" y="136"/>
                </a:cubicBezTo>
                <a:cubicBezTo>
                  <a:pt x="416" y="68"/>
                  <a:pt x="673" y="0"/>
                  <a:pt x="862" y="0"/>
                </a:cubicBezTo>
                <a:cubicBezTo>
                  <a:pt x="1051" y="0"/>
                  <a:pt x="1270" y="0"/>
                  <a:pt x="1406" y="136"/>
                </a:cubicBezTo>
                <a:cubicBezTo>
                  <a:pt x="1542" y="272"/>
                  <a:pt x="1588" y="590"/>
                  <a:pt x="1679" y="817"/>
                </a:cubicBezTo>
                <a:cubicBezTo>
                  <a:pt x="1770" y="1044"/>
                  <a:pt x="1754" y="1353"/>
                  <a:pt x="1951" y="1497"/>
                </a:cubicBezTo>
                <a:cubicBezTo>
                  <a:pt x="2148" y="1641"/>
                  <a:pt x="2389" y="1648"/>
                  <a:pt x="2858" y="1678"/>
                </a:cubicBezTo>
                <a:cubicBezTo>
                  <a:pt x="3327" y="1708"/>
                  <a:pt x="4045" y="1693"/>
                  <a:pt x="4763" y="167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332000" y="1989000"/>
            <a:ext cx="6769080" cy="2951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771640" y="515772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 total of intelligent conscious be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332000" y="3068640"/>
            <a:ext cx="15127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995640" y="2565360"/>
            <a:ext cx="25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e sim threat seri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7002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3577200">
            <a:off x="1074240" y="2515680"/>
            <a:ext cx="1081080" cy="360360"/>
          </a:xfrm>
          <a:prstGeom prst="rightArrow">
            <a:avLst>
              <a:gd name="adj1" fmla="val 0"/>
              <a:gd name="adj2" fmla="val 144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55640" y="189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ding speculations: Might We Be In a Minor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 further (final?) Copernican shift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258920" y="1773360"/>
            <a:ext cx="6769080" cy="3816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64000" y="2492280"/>
            <a:ext cx="1224000" cy="72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79640" y="5805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 total of conscious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eryone believes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wn lives to be real, non-virtual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7024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1156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96000" y="3860640"/>
            <a:ext cx="4143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5288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37320" y="3860640"/>
            <a:ext cx="4143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7864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61280" y="3860640"/>
            <a:ext cx="4161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19960" y="3860640"/>
            <a:ext cx="4158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8200" y="2492280"/>
            <a:ext cx="1079640" cy="1079640"/>
          </a:xfrm>
          <a:prstGeom prst="wedgeRoundRectCallout">
            <a:avLst>
              <a:gd name="adj1" fmla="val -35736"/>
              <a:gd name="adj2" fmla="val 73824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38560" y="2421000"/>
            <a:ext cx="1079280" cy="1079280"/>
          </a:xfrm>
          <a:prstGeom prst="wedgeRoundRectCallout">
            <a:avLst>
              <a:gd name="adj1" fmla="val -18236"/>
              <a:gd name="adj2" fmla="val 75296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46560" y="5013360"/>
            <a:ext cx="1079280" cy="1079640"/>
          </a:xfrm>
          <a:prstGeom prst="wedgeRoundRectCallout">
            <a:avLst>
              <a:gd name="adj1" fmla="val -33236"/>
              <a:gd name="adj2" fmla="val -11426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421000"/>
            <a:ext cx="1079640" cy="1079280"/>
          </a:xfrm>
          <a:prstGeom prst="wedgeRoundRectCallout">
            <a:avLst>
              <a:gd name="adj1" fmla="val 2500"/>
              <a:gd name="adj2" fmla="val 74412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013360"/>
            <a:ext cx="1079640" cy="1079640"/>
          </a:xfrm>
          <a:prstGeom prst="wedgeRoundRectCallout">
            <a:avLst>
              <a:gd name="adj1" fmla="val -4560"/>
              <a:gd name="adj2" fmla="val -10970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30920" y="2276640"/>
            <a:ext cx="1079280" cy="1079280"/>
          </a:xfrm>
          <a:prstGeom prst="wedgeRoundRectCallout">
            <a:avLst>
              <a:gd name="adj1" fmla="val 38527"/>
              <a:gd name="adj2" fmla="val 88527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4940280"/>
            <a:ext cx="1079280" cy="1079640"/>
          </a:xfrm>
          <a:prstGeom prst="wedgeRoundRectCallout">
            <a:avLst>
              <a:gd name="adj1" fmla="val 16615"/>
              <a:gd name="adj2" fmla="val -106472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2349360"/>
            <a:ext cx="1079280" cy="1006560"/>
          </a:xfrm>
          <a:prstGeom prst="wedgeRoundRectCallout">
            <a:avLst>
              <a:gd name="adj1" fmla="val 24703"/>
              <a:gd name="adj2" fmla="val 90222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07280" y="4940280"/>
            <a:ext cx="1079640" cy="1079640"/>
          </a:xfrm>
          <a:prstGeom prst="wedgeRoundRectCallout">
            <a:avLst>
              <a:gd name="adj1" fmla="val 63972"/>
              <a:gd name="adj2" fmla="val -109263"/>
              <a:gd name="adj3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m re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386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mulation Argument: conclus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9640" y="2060640"/>
            <a:ext cx="3097440" cy="259236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real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4724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1557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900000" y="2060280"/>
            <a:ext cx="3097440" cy="25207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u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05080" y="1484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05080" y="46512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 prob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42920" y="5805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ability assignments (not to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1280" y="3141720"/>
            <a:ext cx="1584360" cy="358560"/>
          </a:xfrm>
          <a:prstGeom prst="rightArrow">
            <a:avLst>
              <a:gd name="adj1" fmla="val 50000"/>
              <a:gd name="adj2" fmla="val 1104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8:10:40Z</dcterms:created>
  <dc:creator>Barry Dainton</dc:creator>
  <dc:description/>
  <dc:language>en-US</dc:language>
  <cp:lastModifiedBy>Barry Dainton</cp:lastModifiedBy>
  <dcterms:modified xsi:type="dcterms:W3CDTF">2003-05-28T12:28:52Z</dcterms:modified>
  <cp:revision>69</cp:revision>
  <dc:subject/>
  <dc:title>Virtual Worlds</dc:title>
</cp:coreProperties>
</file>